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576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5660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576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5660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rena Woronieck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KROEKONOMIA II   wykła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dział Informatycznych Technik Zarządzani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ższa Szkoła Informatyki Stosowanej i Zarządzania WIT</a:t>
            </a:r>
            <a:br>
              <a:rPr sz="14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204640"/>
            <a:ext cx="75452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kład 4</a:t>
            </a:r>
            <a:br>
              <a:rPr sz="2800"/>
            </a:br>
            <a:br>
              <a:rPr sz="1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ODEL IS - L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55640" y="3860640"/>
            <a:ext cx="7704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chanizm transmisyjn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rzez który zmiany w sferze finansow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ddziałują na produkcję i sferę realną 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3600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zywa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421000"/>
            <a:ext cx="3816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216000" anchor="ctr">
            <a:normAutofit fontScale="94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Nachylenie krzywej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Ujemne nachylenie krzywej I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 Im wyższa stopa procentowa, tym niższy dochód narodowy zapewniający równowagę na rynku dóbr, i odwrotnie – wraz z malejącą stopą procentową rośnie dochód narodowy gwarantujący równowagę na rynku dó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troma (nieelastyczna) krzywa I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znacza małą wrażliwość popytu globalnego, w tym popytu inwestycyjnego i autonomicznego popytu konsumpcyjnego, na zmiany stopy procentow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Płaska (elastyczna) krzywa I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znacza dużą wrażliwość popytu globalnego na zmiany stopy procentow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716360" y="1268280"/>
          <a:ext cx="402120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4021200" cy="532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5452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 odzwierciedla krzywa LM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076640"/>
            <a:ext cx="82818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Ruch po krzywej L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 wywołany jest przesunięciem krzywej popytu na pieniądz w wyniku zmian dochodu narodow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Przesunięcie krzywej L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wywołane jest przesunięciem krzywej podaży pieniąd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421000"/>
            <a:ext cx="75614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216000" anchor="ctr">
            <a:normAutofit fontScale="94000"/>
          </a:bodyPr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rzywa LM stanowi zbiór różnych kombinacji dochodu narodowego i stopy procentowej, przy których rynek pieniężny znajduje się w równowad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1484280"/>
            <a:ext cx="754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zywa L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4600" y="2206800"/>
          <a:ext cx="8723160" cy="410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2206800"/>
                    <a:ext cx="8723160" cy="4101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23640" y="1773360"/>
            <a:ext cx="4103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chylenie krzywej L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421000"/>
            <a:ext cx="7632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216000" anchor="ctr">
            <a:normAutofit fontScale="98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odatnie nachylenie krzywej L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 wyższy dochód narodowy, tym wyższa stopa procentowa zapewniająca równowagę na rynku pieniądza, i odwrotnie – wraz z malejącym dochodem narodowym maleje stopa procentowa gwarantująca równowagę na rynku pieniężn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Stroma ( nieelastyczna ) krzywa L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oznacza dużą wrażliwość popytu na pieniądz na zmiany dochodu narodowego, a także małą wrażliwość popytu na pieniądz na zmiany stopy procent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Płaska ( elastyczna ) krzywa L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oznacza małą wrażliwość popytu na pieniądz na zmiany dochodu narodowego i dużą wrażliwość popytu na pieniądz na zmiany stopy procentowe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wnowaga na rynkach: dóbr i pieniąd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133720"/>
            <a:ext cx="352908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216000" anchor="ctr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ynek dóbr znajduje się w równowadze we wszystkich punktach na krzywej IS. Rynek pieniężny znajduje się w równowadze we wszystkich punktach na krzywej LM.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Oba rynki znajdują się jednocześnie w równowadze w punkcie 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. Równowagę tę gwarantuje stopa procentowa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i  dochód narodowy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Gdy stopa procentowa jest zbyt wysoka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, dochód narodowy gwarantujący równowagę na rynku dóbr jest niższy od tego, który zapewnia równowagę na rynku pieniężnym. Ponieważ dochód jest zbyt niski, więc i popyt na pieniądz jest niewystarczający w stosunku do jego podaży. Występuje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nadwyżka podaży pieniądza, która wywołuje obniżkę stopy procentowej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24360" y="2349360"/>
          <a:ext cx="4978440" cy="38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349360"/>
                    <a:ext cx="4978440" cy="384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51280" y="1557360"/>
            <a:ext cx="496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spansywna polityka fiskal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1700280"/>
            <a:ext cx="352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216000" anchor="ctr">
            <a:normAutofit fontScale="94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zrost wydatków państwa wywołuje przesunięcie krzywej IS w prawo i  wzrost dochodu narodoweg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Skala ekspansji zależy od charakteru prowadzonej polityki fiskaln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Jeśli wzrost wydatków państwa finansowany jest przez emisję obligacj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podaż pieniądza nie zmienia się), nowy punkt równowagi znajduje się w punkcie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na tej samej krzywej LM,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topa procentowa rośni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Wzrost stopy procentowej prowadzi do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efektu wypierani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częściowego wyparcia inwestycji prywatnych i popytu konsumpcyjneg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zrost wydatków państwa finansowany przez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dodruk pieniądz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podaż pieniądza rośnie) wywołuje przesunięcie krzywej LM w prawo i nowy punkt równowagi znajduje się w punkcie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stopa procentowa nie rośnie, a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zrost dochodu jest większ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73520" y="2206800"/>
          <a:ext cx="5138640" cy="377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3520" y="2206800"/>
                    <a:ext cx="5138640" cy="3773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1320" y="1628640"/>
            <a:ext cx="6273720" cy="481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0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tyka monetar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060640"/>
            <a:ext cx="3529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216000" anchor="ctr">
            <a:normAutofit fontScale="97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Wzrost podaży pieniądza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wywołuje obniżkę stopy procentowej, w ślad za tym wzrost popytu inwestycyjnego i konsumpcyjnego i w konsekwencji wzrost dochodu narodoweg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zrost podaży pieniądza powoduje przesunięcie krzywej LM w praw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i  przesunięcie punktu równowagi wzdłuż krzywej IS do punktu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znacza to spadek stopy procentowej i wzrost dochodu narodoweg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Zmniejszenie podaży pieniądza, odwrotnie - wywołuje wzrost stopy procentowej i spadek dochodu narodowego.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stępuje przesunięcie krzywej LM w lewo i  przesunięcie punktu równowagi wzdłuż krzywej IS do punktu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780000" y="2276640"/>
          <a:ext cx="509256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276640"/>
                    <a:ext cx="5092560" cy="381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87280" y="1557360"/>
          <a:ext cx="6624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624720" cy="504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770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357720"/>
            <a:ext cx="777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następnym wykła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INFLACJA A CYKLE KONIUNKTURAL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wnowaga na rynku dóbr 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ypomnienie z wykładu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03280" y="2205000"/>
          <a:ext cx="612144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205000"/>
                    <a:ext cx="6121440" cy="439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wnowaga na rynku pieniądza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zypomnienie z wykładu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98480" y="2278080"/>
          <a:ext cx="5573880" cy="410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2278080"/>
                    <a:ext cx="5573880" cy="4108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leżność popytu konsumpcyjnego od stopy procentowe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44500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2349360"/>
            <a:ext cx="82821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ieniądz i stopa procentowa wpływają 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zasoby majątkowe gospodarstw domowych (efekt bogactw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kredyty konsumpcyj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zrost realnej podaży pieniądza i obniżka stopy procentowej wywołuj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wzrost majątku gospodarstw domowych w wyniku efektu bogact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ezpośrednio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eniądz jest jedną z form aktywów, w jakich ludzie gromadzą mająte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ośrednio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niżka stopy procentowej wywołuje wzrost cen obligacji i akc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rosnące kredyty na cele konsumpcyj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iższa stopa procentowa obniżając koszt kredytu zachęca do zaciągania kredytu bankowego)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 powoduje przesunięcie funkcji konsumpcji ( i tym samym funkcji popytu globalnego) w górę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676520"/>
            <a:ext cx="820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leżność popytu inwestycyjnego od stopy procentowe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44500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349360"/>
            <a:ext cx="82821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opyt inwestycyjn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ależy 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zysku z inwesty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kosztu alternatywnego (utraconych odsetek od zamrożonego kapitału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zyli od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stopy procentow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ylko te projekty inwestycyjne będą realizowane, które zapewnią  zwrot z kapitału co najmniej na poziomie kosztu alternatywn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 wyższa stopa procentowa tym mniej projektów inwestycyjnych spełnia te wymagania, a więc mniej inwestycji będzie planowanych do reali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5516640"/>
            <a:ext cx="756144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m wyższa stopa procentowa tym mniejszy popyt inwestycyj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0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ekty tłumie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44500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87280" y="2276640"/>
          <a:ext cx="6764400" cy="35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76640"/>
                    <a:ext cx="6764400" cy="35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ekty wypierania w polityce fiskalne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44500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2496960"/>
          <a:ext cx="7024680" cy="37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96960"/>
                    <a:ext cx="702468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5452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tota modelu IS - L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56536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IS–LM odzwierciedla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echanizm transmisyjn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poprzez który zmiany w sferze finansowej oddziałują na sferę realną i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ice ver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3716280"/>
            <a:ext cx="80629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modelu IS-LM rozpatruje się różn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kombinacje dochodu narodowego i stopy procentowe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tóre prowadziłyby do ustalenia się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ównowagi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a każdym z rynków oddzielni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 rynku dób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ynku pieniądz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Taka analiza pozwala w efekcie wyznaczyć taką kombinację dochodu narodowego i stopy procentowej, która zapewni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ównowagę na obu rynkach jednocześni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5452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 odzwierciedla krzywa IS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076640"/>
            <a:ext cx="8281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Ruch po krzywej I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wywołany jest przesunięciem krzywej popytu globalnego w wyniku zmian stopy procentow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Przesunięcie krzywej I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wywołane jest przesunięciem krzywej popytu globalnego na skutek innych przyczyn niż stopa procentowa, takich jak: zmiany autonomicznego popytu konsumpcyjnego, zmiany popytu inwestycyjnego (np. w wyniku wzrostu optymizmu przedsiębiorców), zmiany wydatków budżetu państwa (polityka fiskalna),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421000"/>
            <a:ext cx="756144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216000" anchor="ctr">
            <a:normAutofit fontScale="94000"/>
          </a:bodyPr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rzywa IS stanowi zbiór różnych kombinacji dochodu narodowego i stopy procentowej, przy których rynek dóbr znajduje się w równowad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3:03:01Z</dcterms:created>
  <dc:creator>Irena Woroniecka</dc:creator>
  <dc:description/>
  <dc:language>en-US</dc:language>
  <cp:lastModifiedBy>Irena Woroniecka</cp:lastModifiedBy>
  <dcterms:modified xsi:type="dcterms:W3CDTF">2007-03-22T13:13:21Z</dcterms:modified>
  <cp:revision>608</cp:revision>
  <dc:subject/>
  <dc:title>POLITYKA STÓP PROCENTOWYCH. CEL INFLACYJNY I STABILIZACYJNY. </dc:title>
</cp:coreProperties>
</file>