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465876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0632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576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56600" y="270828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7576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56600" y="4658760"/>
            <a:ext cx="2457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06320" y="465876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06320" y="2708280"/>
            <a:ext cx="37245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4658760"/>
            <a:ext cx="7632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708280"/>
            <a:ext cx="7632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7280" y="333360"/>
            <a:ext cx="540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rena Woroniecka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AKROEKONOMIA II   wykład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ydział Informatycznych Technik Zarządzania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yższa Szkoła Informatyki Stosowanej i Zarządzania WIT</a:t>
            </a:r>
            <a:br>
              <a:rPr sz="1400"/>
            </a:b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584360" cy="10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MAKROEKONOMIA II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kres i literatu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68360" y="2781360"/>
            <a:ext cx="73040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Zakres wykład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 IS-L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lacja a cykle koniunktural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e wzrostu gospodarcze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508640"/>
            <a:ext cx="7772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egg D., Fischer S., Dornbusch R.:. Makroekonomia, PWE, Warszawa 200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Burda M., Wyplosz Ch.: Makroekonomia, PWE, Warszawa 199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Nasiłowski M.: System rynkowy.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Podstawy mikro- i makroekonomii, Wydawnictwo Key Tex, Warszawa 199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Samuelson P.A., Nordhaus W.D.: Ekonomia 1 i 2, PWN, Warszawa 2003 i 200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ównowaga  inwestycje - oszczędnoś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62120" y="4648320"/>
                <a:ext cx="1242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006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3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195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57200" y="3200400"/>
                <a:ext cx="1881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7" name=""/>
          <p:cNvGraphicFramePr/>
          <p:nvPr/>
        </p:nvGraphicFramePr>
        <p:xfrm>
          <a:off x="2843280" y="2349360"/>
          <a:ext cx="5810040" cy="41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349360"/>
                    <a:ext cx="5810040" cy="4175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ożnik inwestycyjn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96960" y="2365200"/>
          <a:ext cx="7504200" cy="43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2365200"/>
                    <a:ext cx="75042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doks zapobiegliwoś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04812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92280" y="2438280"/>
          <a:ext cx="7650000" cy="43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438280"/>
                    <a:ext cx="765000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05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k działa mechanizm mnożnika inwestycyjneg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2060640"/>
          <a:ext cx="8207280" cy="4321080"/>
        </p:xfrm>
        <a:graphic>
          <a:graphicData uri="http://schemas.openxmlformats.org/drawingml/2006/table">
            <a:tbl>
              <a:tblPr/>
              <a:tblGrid>
                <a:gridCol w="820800"/>
                <a:gridCol w="1193760"/>
                <a:gridCol w="3097080"/>
                <a:gridCol w="3095640"/>
              </a:tblGrid>
              <a:tr h="90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lejna chwi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yrost inwestycj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de-DE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yrost wydatków konsumpcyjny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tytułu rosnących dochodó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i="1" lang="de-DE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 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de-DE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 -1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zyrost dochodu narodoweg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+ 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erwotny przyrost dochodu narodowego z tytułu wzrostu inwesty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órne przyrosty dochodu narodowego z tytułu wzrostu wydatków konsumpcyjn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</a:t>
                      </a:r>
                      <a:r>
                        <a:rPr b="1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i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</a:t>
                      </a:r>
                      <a:r>
                        <a:rPr b="1" i="1" lang="pl-PL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i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 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 -1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</a:t>
                      </a:r>
                      <a:r>
                        <a:rPr b="1" i="1" lang="pl-PL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i="1" lang="pl-P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</a:t>
                      </a:r>
                      <a:r>
                        <a:rPr b="1" i="1" lang="pl-PL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539640" y="2276640"/>
          <a:ext cx="8026560" cy="358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76640"/>
                    <a:ext cx="802656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0920" y="1628280"/>
            <a:ext cx="77058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ak działa mechanizm mnożnika inwestycyjnego?  c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3789360"/>
            <a:ext cx="144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hemat blokow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Mechanizm mnożnika – akcelerato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1413000"/>
          <a:ext cx="777744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13000"/>
                    <a:ext cx="77774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058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iza symulacyjna z wykorzystaniem modelu mnożnika inwestycyjne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213000"/>
            <a:ext cx="7777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Jak wzrost (spadek) nakładów inwestycyjnych w gospodarce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pływa na wielkość dochodu narodowe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Jak zwiększenie (zmniejszenie) krańcowej skłonności do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konsumpcji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pływa na wzrost w gospodar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2205000"/>
            <a:ext cx="7705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ziękuję za uwag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3357720"/>
            <a:ext cx="7777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następnym wykładz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RÓWNOWAGA NA RYNKU DÓ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Z UWZGLĘDNIENIEM BUDŻETU PAŃST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I HANDLU ZAGRAN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77058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cc"/>
                </a:solidFill>
                <a:latin typeface="Times New Roman"/>
              </a:rPr>
              <a:t>MAKROEKONOMIA II</a:t>
            </a:r>
            <a:br>
              <a:rPr sz="28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ypowy program - syllab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2743200"/>
          <a:ext cx="7772400" cy="3565440"/>
        </p:xfrm>
        <a:graphic>
          <a:graphicData uri="http://schemas.openxmlformats.org/drawingml/2006/table">
            <a:tbl>
              <a:tblPr/>
              <a:tblGrid>
                <a:gridCol w="654120"/>
                <a:gridCol w="7118280"/>
              </a:tblGrid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stawowe nurty we współczesnej teorii makroekonomicznej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280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ównowaga na rynku dób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ównowaga na rynku pieniądz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echanizm transmisyjny. Równowaga na rynku dóbr i pieniądza – model IS-L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Inflacj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podstawowe teori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Bezrobocie i inflacj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 gospodarc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ndel zagraniczny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se międzynarodowe – bilans płatniczy i kurs walutowy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eorie cyklu koniunkturalneg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eorie wzrostu gospodarczego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la państwa w gospodarc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cc"/>
                      </a:solidFill>
                    </a:lnL>
                    <a:lnR w="280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2808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MAKROEKONOMIA II</a:t>
            </a:r>
            <a:br>
              <a:rPr sz="2800"/>
            </a:b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dele, badania empiryczne i prezentacje komputerow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3068640"/>
            <a:ext cx="77724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239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iza symulacyjna z wykorzystaniem modelu mnożnika inwestycyjnego i budżetow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 cyklu koniunkturalnego. Symulacje komputerow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dentyfikacja preferencji decyzyjnych banku centralnego w kształtowaniu polityki monetarnej z wykorzystaniem funkcji C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 o politykę makroekonomiczną między bankiem centralnym a rząd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38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MAKROEKONOMIA II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aty wykładó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637000"/>
            <a:ext cx="77724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239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ównowaga na rynku dó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ównowaga na rynku dóbr z uwzględnieniem budżetu państwa i  handlu zagraniczneg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ównowaga na rynku pieniąd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 IS-L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lacja a cykle koniunktural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e wzrostu gospodarcz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tyka moneta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ykład 1</a:t>
            </a:r>
            <a:br>
              <a:rPr sz="2800"/>
            </a:br>
            <a:br>
              <a:rPr sz="1800"/>
            </a:b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RÓWNOWAGA NA RYNKU DÓBR</a:t>
            </a:r>
            <a:br>
              <a:rPr sz="2800"/>
            </a:br>
            <a:br>
              <a:rPr sz="1000"/>
            </a:b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prowadzenie do modelu IS-L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kcja konsumpcj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3080" y="243828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kcja konsumpcji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yraża zależność wielkości konsumpcji od poziomu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ozycyjnych dochodów lud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owane wydatki na konsumpcj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iczny poziom konsumpcji, niezależny od poziomu dyspozycyjnych dochodów lud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ozycyjne dochody lud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ańcowa skłonność do konsump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Ws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ółczynnik krańcowej skłonności do konsumpcji </a:t>
            </a:r>
            <a:r>
              <a:rPr b="1" i="1" lang="pl-P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i="1" lang="pl-P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acza o ile konsumen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ci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sa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skłonn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zwiększyć konsumpcję w wyniku wzrostu dochodów dyspozycyjnych o jednostkę</a:t>
            </a:r>
            <a:r>
              <a:rPr b="1" lang="pl-PL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721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92480" y="3129120"/>
                <a:ext cx="7840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kcja oszczędnoś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276640"/>
            <a:ext cx="84582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kcja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szczędnośc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yraża zależność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zczędnośc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poziom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ozycyjnych dochodów lud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ub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owan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zczęd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iczny poziom konsumpcji, niezależny od poziomu dyspozycyjnych dochodów lud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ozycyjne dochody lud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ańcowa skłonność do konsump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ańcowa skłonność d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zczędz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ółczynnik krańcowej skłonności do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szczędzania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nacza o ile konsumen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i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ą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skłonn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zwiększyć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szczędności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w wyniku wzrostu dochodów dyspozycyjnych o jednostkę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796000" y="3129120"/>
                <a:ext cx="13698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Równowaga w ujęciu keynesowskim - założe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421000"/>
            <a:ext cx="8282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Założenia upraszczają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westycje mają charakter autonomiczny, nie zależą od dochodu narodow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iepełne wykorzystanie zdolności produkcyjny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 razie analizujemy tylko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dwa podstawowe składniki popytu globalneg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konsumpcję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inwestycje </a:t>
            </a:r>
            <a:r>
              <a:rPr b="1" i="1" lang="en-US" sz="16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33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4365720"/>
            <a:ext cx="1447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pl-PL" sz="2000" spc="-1" strike="noStrike">
                <a:solidFill>
                  <a:srgbClr val="ff0000"/>
                </a:solidFill>
                <a:latin typeface="Times New Roman"/>
              </a:rPr>
              <a:t> C + 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eaeaea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ównowaga między popytem globalnym a podaż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14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914400" y="3429000"/>
                <a:ext cx="11826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11430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14400" y="2514600"/>
                <a:ext cx="1182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447920" y="52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14400" y="4724280"/>
                <a:ext cx="124308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2" name=""/>
          <p:cNvGraphicFramePr/>
          <p:nvPr/>
        </p:nvGraphicFramePr>
        <p:xfrm>
          <a:off x="2743200" y="2209680"/>
          <a:ext cx="58690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09680"/>
                    <a:ext cx="5869080" cy="44197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3:03:01Z</dcterms:created>
  <dc:creator>Irena Woroniecka</dc:creator>
  <dc:description/>
  <dc:language>en-US</dc:language>
  <cp:lastModifiedBy>Irena Woroniecka</cp:lastModifiedBy>
  <dcterms:modified xsi:type="dcterms:W3CDTF">2007-02-25T19:03:08Z</dcterms:modified>
  <cp:revision>412</cp:revision>
  <dc:subject/>
  <dc:title>POLITYKA STÓP PROCENTOWYCH. CEL INFLACYJNY I STABILIZACYJNY. </dc:title>
</cp:coreProperties>
</file>