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0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5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NFLACJA A CYKLE KONIUNKTURAL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zrost PKB w Polsce od 1990 ro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2286000"/>
          <a:ext cx="6488280" cy="40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6000"/>
                    <a:ext cx="648828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429000"/>
            <a:ext cx="1498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tempo wzrostu PKB w 2006 wg G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zrost PKB w Polsce od 1990 ro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4560" y="2209680"/>
          <a:ext cx="6914880" cy="41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209680"/>
                    <a:ext cx="69148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iunktura w Polsce od 1992 – wahania PK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58920" y="2276640"/>
          <a:ext cx="6626160" cy="41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66261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0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hania produkcji i bezrobo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2209680"/>
          <a:ext cx="6696000" cy="42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6696000" cy="42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162920" y="3276720"/>
            <a:ext cx="1752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opa bezrobocia w Polsce na początku 2007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k.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yczeń - 15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luty - 14,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mnożnika – akcelerato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16720" y="4365720"/>
                <a:ext cx="2179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516720" y="5734080"/>
                <a:ext cx="2266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084720" y="3789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kcelerator (współczynnik efektywności inwestycj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515772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półczynnik krańcowej kapitałochłonności produk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276640"/>
            <a:ext cx="561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echanizm mnożnik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omówiony wcześniej –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rona popyt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Zasada akcelera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przyspieszenia) –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trona podaż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echanizm mnożnik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informuje o tym, o ile wzrośnie produkcja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opyt w gospodarce 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 wyniku jednostkowego wzrostu nakładów inwestycyjny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Krańcowa skłonność do konsump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informuje o tym, o ile wzrośnie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opyt konsumpcyjn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 wyniku jednostkowego wzrostu dochodów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spółczynnik efektywności inwesty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informuje o tym, jaki wzrost zdolności produkcyjnych w gospodarce można uzyskać w przyszłym roku w wyniku jednostkowych nakładów inwestycyjnych poniesionych roku bieżący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spółczynnik krańcowej kapitałochłonności produk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informuje o tym, jak duże nakłady inwestycyjne należy ponieść w danym roku, aby w roku następnym zwiększyć zdolności produkcyjne w gospodarce o jednost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4720" y="2349360"/>
            <a:ext cx="280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półczynnik krańcowej skłonności do konsump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618240" y="2924280"/>
                <a:ext cx="1330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24000" y="3789360"/>
            <a:ext cx="144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emat blokow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Mechanizm mnożnika – akcelerato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413000"/>
          <a:ext cx="77774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777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060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mputerowa analiza symulacyjna z wykorzystaniem modelu cyklu koniunkturaln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2276640"/>
            <a:ext cx="7848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a bezrobocie - krzywa Phillip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268360" y="184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ff8d"/>
                </a:solidFill>
                <a:latin typeface="Arial"/>
              </a:rPr>
              <a:t>Krzywa Phillip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5442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zjawisko wymienności </a:t>
            </a:r>
            <a:r>
              <a:rPr b="1" lang="pl-PL" sz="1600" spc="-1" strike="noStrike">
                <a:solidFill>
                  <a:srgbClr val="454422"/>
                </a:solidFill>
                <a:latin typeface="Times New Roman"/>
              </a:rPr>
              <a:t>(trade off) </a:t>
            </a:r>
            <a:r>
              <a:rPr b="1" lang="pl-PL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między stopą inflacji i stopą bezrobocia – ruch po krzywej z punktu A do B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240" y="1523880"/>
            <a:ext cx="5334120" cy="472464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85800" y="5638680"/>
            <a:ext cx="4648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791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bezrobo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066680" y="159984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828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lac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371240" y="-838800"/>
            <a:ext cx="640008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67040" y="-25200"/>
            <a:ext cx="5664600" cy="508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37" y="110"/>
                </a:moveTo>
                <a:arcTo wR="10800" hR="10800" stAng="-4909071" swAng="4579586"/>
                <a:lnTo>
                  <a:pt x="10800" y="10800"/>
                </a:lnTo>
                <a:close/>
              </a:path>
              <a:path fill="none" w="21600" h="21600">
                <a:moveTo>
                  <a:pt x="12337" y="110"/>
                </a:moveTo>
                <a:arcTo wR="10800" hR="10800" stAng="-4909071" swAng="4579586"/>
              </a:path>
            </a:pathLst>
          </a:cu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5105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266720"/>
            <a:ext cx="3812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572000"/>
            <a:ext cx="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191120"/>
            <a:ext cx="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572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599840" y="4114800"/>
            <a:ext cx="30492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876920"/>
            <a:ext cx="30456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50292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45442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szok podażowy</a:t>
            </a:r>
            <a:r>
              <a:rPr b="0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 – 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przesunięcie krzywej  Phillipsa (przejście z punktu C do C’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505320"/>
            <a:ext cx="2895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45442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dylemat polityki makroekonomicznej - obniżenie 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bezroboci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a można uzyskać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„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kosztem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”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  <a:ea typeface="Times New Roman"/>
              </a:rPr>
              <a:t> wyższej inflacji</a:t>
            </a:r>
            <a:r>
              <a:rPr b="1" lang="en-US" sz="1600" spc="-1" strike="noStrike">
                <a:solidFill>
                  <a:srgbClr val="454422"/>
                </a:solidFill>
                <a:latin typeface="Times New Roman"/>
              </a:rPr>
              <a:t> i </a:t>
            </a:r>
            <a:r>
              <a:rPr b="1" i="1" lang="en-US" sz="1600" spc="-1" strike="noStrike">
                <a:solidFill>
                  <a:srgbClr val="454422"/>
                </a:solidFill>
                <a:latin typeface="Times New Roman"/>
              </a:rPr>
              <a:t>vice 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600200"/>
            <a:ext cx="3962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zywa Phillip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ługookresowa krzywa Phillip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55640" y="2349360"/>
          <a:ext cx="5904000" cy="41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5904000" cy="4175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948360" y="3500280"/>
            <a:ext cx="1727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ryty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z pozyc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onetarys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orie infla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781360"/>
            <a:ext cx="7304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lacja popyt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lacja koszt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netarystyczna teoria inf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1447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a keynesowska krzywa Phillipsa. Model mechanizmu transmis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2437920"/>
            <a:ext cx="39560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mechanizmu transmisji w gospodarce zamkniętej z lepkimi cenami i płacami w nurcie nowej ekonomii keynesowskiej zawiera dwa podstawowe równani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równanie inflacj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względne zmiany poziomu cen (tj. inflacja) zależą od oczekiwań inflacyjnych i bieżących zmian cen proporcjonalnych do luki popytowe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leżność produkcji od stopy procentowej (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krzywa I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– w dwóch wariantach: w terminach produktu i luki popytowej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572000" y="2438280"/>
                <a:ext cx="24192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48120"/>
                <a:ext cx="38638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0" y="3657600"/>
                <a:ext cx="3876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4356000" y="4221000"/>
            <a:ext cx="4459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inflacja,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– inflacja oczekiwan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produkcja,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– produkcja oczekiwan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luka popytowa,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–oczekiwana luka popytow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stopa procentow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naturalna stopa procentow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(stopa dyskontowa równa jednocześnie realnej stopie procentowej w stanie długookresowej równowagi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autonomiczne wydatki rządowe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1599840"/>
            <a:ext cx="5183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ka popyto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276640"/>
            <a:ext cx="8496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uka popytowa,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definiowan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najczęściej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jako względna różnica między rzeczywistym a potencjalnym PKB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odniesiona do poziomu potencjalnego PKB),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jest wyznacznikiem nierównowag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anującej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w gospodarce realnej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Pojęcie luki popytowej opiera się na definicji nieobserwowalnego produktu potencjalnego. Ze względu na nieobserwowalny charakter tej kategorii nie istnieje jednoznaczny i jedynie akceptowalny sposób jego wyznaczania. W literaturze reprezentowane są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różne koncepcje produktu potencjalnego i różne metody jego szacowani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Gradzewicz, Kolas,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Luka popytowa je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istotnym, obok m.in. odchylenia inflacji od celu inflacyjnego,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elementem tzw. reguły Taylor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Taylor, 1993) i często jest przesłanką decyzji podejmowanych przez władze monetar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ednak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brak powszechnie akceptowanej metody wyznaczania produktu potencjalnego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jest jednym ze źródeł wysokiej niepewności przy prowadzeniu polityki makroekonomicznej (Orphanides, van Norden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41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odukt potencjalny według Oku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2276640"/>
            <a:ext cx="81342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dług definicji Okuna, potencjalny PKB oznacza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maksymalny produkt, jaki gospodarka jest w stanie wytworzyć w warunkach pełnego zatrudnieni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przy czym pełne zatrudnienie rozumiane jest jako najwyższy jego poziom niewywołujący presji inflacyjnej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pracach aplikacyjnych stosuje się następujące kategorie charakteryzujące  stopę bezrobocia w warunkach równowagi na rynku pracy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NAIRU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Non-Accelerating Inflation Rate of Unemployment) - odnosi się do bezrobocia niewywołującego presji inflacyjn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NAWRU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Non-Accelerating Wage Rate of Unemployment) - odnosi się do bezrobocia niewywołującego presji płacow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naturalna stopa bezrobo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Metody wyznaczania produktu potencjalnego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opierające się na definicji Okuna, wykorzystują zazwyczaj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funkcje produkcj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9640" y="1676160"/>
            <a:ext cx="698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kt potencjalny w modelach DS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276640"/>
            <a:ext cx="81345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jęcie produktu potencjalnego występuje również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w neokeynesowskich modelach typu DSGE (Dynamic Stochastic General Equilibrium) z lepkimi cenam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por. Clarida, Gali, Gertler, 2000). W obrębie tego nurtu produkt potencjalny jest rozumiany jako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produkt osiągany w warunkach równowag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przy braku sztywności w gospodarce, tzn.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przy doskonale elastycznych cenach i płacach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godnie z teorią neokeynesowską potencjalny produkt osiągany jest w warunkach równowagi, przy doskonale elastycznych cenach i płacach, co następuje w długim okresie, dlatego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utożsamiany jes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zazwyczaj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z potencjalną długookresową ścieżką wzrostu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Oszacowanie długookresowej ścieżki wzrostu gospodarczego umożliwia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dekompozycja wzrostu na składnik trwały i cykliczny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zywa Phillipsa a gospodarka Pols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80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a bezrobocie. Polska 1993-200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508720" y="2781000"/>
            <a:ext cx="3200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jawisko wymienności między inflacją a bezrobociem (krzywa Phillips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nie znajduje potwierdzenia w warunkach polskiej gospodarki w analizowanym okres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800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5943240"/>
            <a:ext cx="806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W latach 1993-1997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miał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 miejsce szok  podażowy (przesunięcie krzywej podaży globalnej w prawo) na skutek poprawy efektywności produkcji i obniżania kosztów jednostkowych (pozytywne rezultaty transformacji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3886200"/>
          </a:xfrm>
          <a:prstGeom prst="rect">
            <a:avLst/>
          </a:prstGeom>
          <a:ln w="12600">
            <a:solidFill>
              <a:srgbClr val="333300"/>
            </a:solidFill>
            <a:miter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755280" y="5516640"/>
            <a:ext cx="7777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laczego krzywa Phillipsa „nie pasuje” do danych gospodarczych dla Polsk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14400" y="167652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95288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952880" y="1676520"/>
            <a:ext cx="0" cy="35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294920" y="360"/>
            <a:ext cx="518112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403960" y="226800"/>
            <a:ext cx="5036760" cy="442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76" y="4"/>
                </a:moveTo>
                <a:arcTo wR="10800" hR="10800" stAng="-5312206" swAng="5155594"/>
                <a:lnTo>
                  <a:pt x="10800" y="10800"/>
                </a:lnTo>
                <a:close/>
              </a:path>
              <a:path fill="none" w="21600" h="21600">
                <a:moveTo>
                  <a:pt x="11076" y="4"/>
                </a:moveTo>
                <a:arcTo wR="10800" hR="10800" stAng="-5312206" swAng="5155594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-1296000" y="455760"/>
            <a:ext cx="503100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92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92772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680" y="608760"/>
            <a:ext cx="36568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904760" y="685440"/>
            <a:ext cx="457128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82480" y="151560"/>
            <a:ext cx="434340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3" y="17"/>
                </a:moveTo>
                <a:arcTo wR="10800" hR="10800" stAng="-5590269" swAng="5590269"/>
                <a:lnTo>
                  <a:pt x="10800" y="10800"/>
                </a:lnTo>
                <a:close/>
              </a:path>
              <a:path fill="none" w="21600" h="21600">
                <a:moveTo>
                  <a:pt x="10203" y="17"/>
                </a:moveTo>
                <a:arcTo wR="10800" hR="10800" stAng="-5590269" swAng="5590269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lacja popyt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lacja koszt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4290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48520" y="3276720"/>
            <a:ext cx="457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3276720"/>
            <a:ext cx="5331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4952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kcja re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49528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kcja rea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59280" y="177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4435920" y="1812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2743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pyt globalny roś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2819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zok podaż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419112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38098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96252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42670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3581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05320" y="1139400"/>
            <a:ext cx="3200400" cy="244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66" y="35"/>
                </a:moveTo>
                <a:arcTo wR="10800" hR="10800" stAng="-5124077" swAng="4468804"/>
                <a:lnTo>
                  <a:pt x="10800" y="10800"/>
                </a:lnTo>
                <a:close/>
              </a:path>
              <a:path fill="none" w="21600" h="21600">
                <a:moveTo>
                  <a:pt x="11666" y="35"/>
                </a:moveTo>
                <a:arcTo wR="10800" hR="10800" stAng="-5124077" swAng="4468804"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3124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350532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leżność: inflacja a bezrobocie -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 1998 r. zgodna z koncepcją Phillip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64000" y="2492280"/>
          <a:ext cx="3429000" cy="2057400"/>
        </p:xfrm>
        <a:graphic>
          <a:graphicData uri="http://schemas.openxmlformats.org/drawingml/2006/table">
            <a:tbl>
              <a:tblPr/>
              <a:tblGrid>
                <a:gridCol w="855720"/>
                <a:gridCol w="860400"/>
                <a:gridCol w="855720"/>
                <a:gridCol w="857160"/>
              </a:tblGrid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-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3-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-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-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8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4876560" cy="3581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410080" y="4869000"/>
            <a:ext cx="32767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orelacj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między inflacją a stopą bezrobocia w różnych okresach: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-  dodatnia do 1996 roku 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-  i ujemna po 1997 rok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16572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ależność między inflacją a bezrobociem w latach 1998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akceleracyj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360" y="2819520"/>
            <a:ext cx="815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modelu tym przyjmuje się, że w gospodarce kształtuje się równowaga między popytem globalnym a podażą, której towarzyszy pewien poziom bezrobocia definiowany jako bezrobocie „naturalne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tórzy ekonomiści, np. Solow (2002) wolą określenie „neutralne”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22050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asadnicze pytanie, jak prowadzić politykę monetarną, odpowiada m. in.  standardowa doktryna oparta na modelu akceleracyjn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080" y="4114800"/>
            <a:ext cx="8458200" cy="128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0000" rIns="270000" tIns="54000" bIns="54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flacja rośnie, jeśli występuje nierównowaga o charakterze ekspansywny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postaci zbyt niskiego bezrobocia (niższego od bezrobocia naturalnego), wówczas gospodarka przyspiesza względem „naturalnego” poziomu równowa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 sytuacj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dmiernego bezrobocia (wyższego od naturalnego),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ospodarka zwalnia, a inflacja spad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6386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Reguła Taylora</a:t>
            </a:r>
            <a:br>
              <a:rPr sz="2000"/>
            </a:br>
            <a:br>
              <a:rPr sz="1200"/>
            </a:b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żna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ównież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rzystać inne wyznaczniki nierównowagi, np. stopień wykorzystania potencjału gospodarczego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elacja między inflacją a odchyleniami: stopy bezrobocia i wzrostu PKB od tren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11280" y="2708280"/>
          <a:ext cx="8076960" cy="3200400"/>
        </p:xfrm>
        <a:graphic>
          <a:graphicData uri="http://schemas.openxmlformats.org/drawingml/2006/table">
            <a:tbl>
              <a:tblPr/>
              <a:tblGrid>
                <a:gridCol w="2016000"/>
                <a:gridCol w="2025720"/>
                <a:gridCol w="2016000"/>
                <a:gridCol w="2019240"/>
              </a:tblGrid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y bezrobocia od tren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a wzrostu PKB od tren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enie bezwzgl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enie wzgl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enie bezwzgl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chylenie względ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res 1993 - 2002   dane ro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res 1998 - 2002   dane kwartal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0,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0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cc"/>
                      </a:solidFill>
                    </a:lnL>
                    <a:lnR w="18720">
                      <a:solidFill>
                        <a:srgbClr val="0000cc"/>
                      </a:solidFill>
                    </a:lnR>
                    <a:lnT w="18720">
                      <a:solidFill>
                        <a:srgbClr val="0000cc"/>
                      </a:solidFill>
                    </a:lnT>
                    <a:lnB w="1872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84360" y="6093000"/>
            <a:ext cx="8001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Dopiero po 1998 roku dane statystyczne charakteryzujące rozwój gospodarczy Polski są zgodne z koncepcją modelu akceleracyj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276640"/>
            <a:ext cx="5715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orelacja inflacji z odchyleni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0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popyto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76360" y="2278080"/>
          <a:ext cx="619128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78080"/>
                    <a:ext cx="6191280" cy="431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a krzywa Phillipsa – wyniki dla Pols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37400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 estymacji wykorzystano dane roczne dla Polsk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– inflacja na podstawie CPI (średnia w roku), dane GU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– inflacja oczekiwana (średnia w roku), dane NBP na podstawie badań ankietowych Ipsos – wariant a (addytywna formuła średniej)  oraz b (multiplikatywna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– luka popytowa (procentowe odchylenie realnego PKB od liniowego trendu), na podstawie danych GUS dotyczących PKB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0" y="4221000"/>
                <a:ext cx="344016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4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72000" y="2781360"/>
                <a:ext cx="3456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4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3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3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0" y="2349360"/>
            <a:ext cx="1295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arian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3789360"/>
            <a:ext cx="1295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arian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- wyniki estyma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41480" y="2278080"/>
          <a:ext cx="662940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278080"/>
                    <a:ext cx="66294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05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erniki koniunkt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249228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krometr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nRK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Makroekonomiczny Indeks Koniunktury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– ten przykład wskaźnika koniunktury, opartego o badania ilościowe, będzie omówiony dokładni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Większość w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kaźników koniunktur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struowanych jest w oparciu o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dania ankietow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zeprowadzane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śród gospodarstw domowych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na temat sytuacji bieżącej i ich przewidywaniach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raz przedsiębiorców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nośnie ich oceny bieżącego i przyszłego stanu koniunktury, portfela zamówień, zmian cen, kursów walut czy zapasów. Są to badania jakościowe, czyli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brazujące panujące nastroje wśród przedsiębiorców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ie ilościowe, dotyczące zmian poszczególnych wskaźników ekonomicznych. Zatem, jeśli wśród przedsiębiorców przeważają optymiści i ich liczba wzrasta z miesiąca na miesiąc, wskaźnik koniunktury rośnie, w przeciwnym wypadku, czyli jeśli przeważają oceny pesymistyczne i liczba pesymistów wzrasta, wskaźnik maleje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Np.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skaźniki koniunktury NBP, GUS, SGH, WML-Wskaźnik Managerów Logistyki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569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ne, najbardziej znane mierniki koniunkt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2133720"/>
            <a:ext cx="84582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Wskaźniki ogólnego klimatu koniunktury w przemyśle przetwórczym, budownictwie i handlu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- publikowane co miesiąc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rzez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G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Ogólne wskaźniki koniunktury w przemyśle, budownictwie i handlu oraz wskaźniki charakteryzujące kondycję gospodarstw domowych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- publikowane także w cyklu miesięcznym przez Instytut Rozwoju Gospodarczego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SGH</a:t>
            </a:r>
            <a:r>
              <a:rPr b="1" lang="pl-PL" sz="16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Wskaźniki te rejestrują oceny przedsiębiorstw i gospodarstw domowych o sytuacji bieżącej i ich przewidywaniach - do okresów najbliższych 3, 6 i 12 miesięc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Wskaźnik wczesnego ostrzegania</a:t>
            </a:r>
            <a:r>
              <a:rPr b="1" lang="pl-PL" sz="1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co miesiąc publikowany przez prof.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Marię Drozdowicz w "Rzeczypospolitej"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"Rzeczpospolita" publikuje także, od niedawna, własny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barometr koniunktur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 który jest próbą syntezy kilku wskaźników publikowanych przez różne ośrodki krajowe i zagranicz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Wskaźnik wczesnego ostrzegania przed kryzysami Centrum Analiz Społeczno-Ekonomicznych (CASE)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- najbliższy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owi koniunktury nRK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Wskaźnik CASE określa zmiany w różnych sferach sytuacji makroekonomicznej przy pomocy jednej, syntetycznej  wielkości. Zgodnie z założeniami przyjętymi przy budowie tego indeksu stawia on sobie za cel ostrzeganie o zmniejszeniu lub zwiększeniu stopnia zagrożenia kryzysami. Im jest wyższy, tym większe zagrożeni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9280" y="1600200"/>
            <a:ext cx="7705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akrometr nR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krometr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nRK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Makroekonomiczny Indeks Koniun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jest syntetyczn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ą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 ocen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ą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 stopnia odchylenia stan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kroekonomicznych uwarunkow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koniunktury od poziomu uznanego za optymaln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ykorzystano d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iadczenia z prezentacji prognoz makroekonomicznych publikowanych na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ach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z Rynek Kapit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w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”,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iadomości Gospodarcz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Penetrator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t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ść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deksu wyznaczana jest w postaci sumy odchyle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ń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zeczywistego poziomu k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j z wybranych wielk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ś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 makroekonomicznych od poziomu uznanego za optymaln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krometr może przyjmować wartości dodatnie z przedziału od 0 pkt. (sytuacja neutralna) do +100 pkt. (idealnie) oraz ujemne (spadek poni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ż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 -50 oznacza katastrof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 Granice poszczeg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nych stref zagr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żeń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zostały ustalone arbitralni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9280" y="1600200"/>
            <a:ext cx="7705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akrometr c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2895480"/>
          <a:ext cx="8305920" cy="3235320"/>
        </p:xfrm>
        <a:graphic>
          <a:graphicData uri="http://schemas.openxmlformats.org/drawingml/2006/table">
            <a:tbl>
              <a:tblPr/>
              <a:tblGrid>
                <a:gridCol w="1108080"/>
                <a:gridCol w="1025640"/>
                <a:gridCol w="984240"/>
                <a:gridCol w="1073160"/>
                <a:gridCol w="984240"/>
                <a:gridCol w="996840"/>
                <a:gridCol w="1067040"/>
                <a:gridCol w="1066680"/>
              </a:tblGrid>
              <a:tr h="801720"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ości dodatnie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cc"/>
                      </a:solidFill>
                    </a:lnR>
                    <a:lnT>
                      <a:noFill/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 ,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 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 ,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5 , 8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,5 ,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00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bardzo sła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sła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dobr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bardzo dobr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ide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oniżej 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0 , 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5 ,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 gridSpan="5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ości ujem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>
                      <a:noFill/>
                    </a:lnR>
                    <a:lnT w="28080">
                      <a:solidFill>
                        <a:srgbClr val="0000cc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katastro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bardzo ź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ź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c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343080" y="22860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yod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nia się 8 obszarów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9280" y="1600200"/>
            <a:ext cx="7705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nstrukcja makromet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505320"/>
            <a:ext cx="1371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mpo P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bezrobo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lac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8954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ównowaga zewnętrz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971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ina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2971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ieniąd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2971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g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2209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Makrome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3505320"/>
            <a:ext cx="1828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ja salda obrotów bieżących do PK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j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u do ekspor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ień pokrycia impor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erwami dewizowym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3429000"/>
            <a:ext cx="1828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ja salda budżetu państwa do PK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j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ługu publiczn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P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3505320"/>
            <a:ext cx="1828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ja podaży pieniądza M3 do PK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ka kredytu dla osób prywat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3429000"/>
            <a:ext cx="1752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procentow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ombardow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urs walut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8954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fera realna i inflac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9280" y="1600200"/>
            <a:ext cx="7705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ziomy optymalne i strefy zagroż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22860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tempo wzrostu PKB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optymalny poziom zmiany rocznej PKB przyjęto 5%; za dolną granicę strefy zagrożeń (nadmierne schłodzenie gospodarki) 2%; za górną (przegrzanie) 8%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stopa bezrobo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a optymalny poziom przyjęto 12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inflacja (CP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a optymalny poziom przyjęto 2,5%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kurs walut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Za optymalny poziom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ursu walutowego USD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zyjęto 4,15 zł; za dolną granicę strefy zagrożenia 3,8 zł (niedofinansowanie sektora eksportowego i nadmiern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tymulacja wzrostu zadłużenia zagranicznego); za górną 4,5 zł (niedofinansowanie sektora importowego i nadmierny wzrost kosztu obsługi zadłużenia zagranicznego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stopa procentowa (w %), tj. nominalna lombardowa stopa procentowa (SL) pomniejszona o inflacj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optymalny poziom przyjęto 4 pkt.; za dolną granicę strefy zagrożenia - 2 pkt. (niedostateczne pobudzanie do oszczędności krajowych i nadmierne stymulowanie kredytu krajowego); za górną granicę strefy zagrożenia - 6 pkt. (niedostateczne stymulowanie kredytu krajowego, a nadmierne zagraniczneg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akrometr nRK - przykładowa analiza koniunktu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Makrometr nRK - wska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ź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nik klimatu inwestycyjnego w Polsce</a:t>
            </a:r>
            <a:br>
              <a:rPr sz="2000"/>
            </a:b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arek Misiak, Grzegorz Sudzik</a:t>
            </a:r>
            <a:br>
              <a:rPr sz="1400"/>
            </a:br>
            <a:br>
              <a:rPr sz="800"/>
            </a:b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ata obserwacji 24.4.2006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56,6 pkt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o 1,1 pkt. więcej, niż przed tygodniem, powyżej granicy "słabo", w dolnej strefie "dobrze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W porównaniu z obserwacją z 17 kwietnia wartość Makrometru wzrosła o 1,1 pkt. 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W ostatnim tygodniu tj. w okresie od 17 kwietnia 2006 r. do 24 kwietnia 2006 r. na zmiany MnRK miały wpływ zmiany składowych: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PKB 1,5 pkt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po dobrych danych o produkcji przemysłowej za marzec podwyższyliśmy prognozowane tempo wzrostu PKB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bilansu płatniczego 0,0 pkt. (brak nowych danych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rynku pieniężnego minus 0,5 pkt.,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skutek podwyższenia prognozy kursu złotego minus 0,4 pkt. i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dalenia perspektywy obniżki stóp procentowych NBP mius 0,1 pkt.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rynku pracy plus 0,2 pkt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skutek podwyższenia prognozy zatrudnienia w sektorze przedsiębiorstw)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Arial"/>
              </a:rPr>
              <a:t>finansów publicznych plus 0,0 pkt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(brak nowych danych)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1628280"/>
            <a:ext cx="830556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akrometr nRK –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ieżące informacje o koniunktur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14400" y="2362320"/>
          <a:ext cx="7315200" cy="3917880"/>
        </p:xfrm>
        <a:graphic>
          <a:graphicData uri="http://schemas.openxmlformats.org/drawingml/2006/table">
            <a:tbl>
              <a:tblPr/>
              <a:tblGrid>
                <a:gridCol w="1219320"/>
                <a:gridCol w="990360"/>
                <a:gridCol w="990720"/>
                <a:gridCol w="990720"/>
                <a:gridCol w="990360"/>
                <a:gridCol w="21337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a obserw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Mn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5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PK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trzymująca się wysoka dynamika wzros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wzrost PKB 4kw 2006 - 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wzrost Inw 4kw 2006 - 1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bilans płatnic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1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wzrost deficytu obr. bieżąc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ynek pienięż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zwiększona presja inflacyj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rynek pra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alejące bezrobocie, rosnące wynagrodz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finanse publ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koszto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76360" y="2349360"/>
          <a:ext cx="5904000" cy="41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5904000" cy="4175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6386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fy zagrożeń - wzrost PK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DefaultOcx" descr=""/>
          <p:cNvPicPr/>
          <p:nvPr/>
        </p:nvPicPr>
        <p:blipFill>
          <a:blip r:embed="rId1"/>
          <a:stretch/>
        </p:blipFill>
        <p:spPr>
          <a:xfrm>
            <a:off x="-4680000" y="-258840"/>
            <a:ext cx="3510000" cy="2318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052720" y="56664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-2687760" y="826920"/>
            <a:ext cx="182520" cy="182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-2071800" y="826920"/>
            <a:ext cx="182520" cy="182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-1432080" y="826920"/>
            <a:ext cx="182880" cy="182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-814320" y="826920"/>
            <a:ext cx="182520" cy="182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-220680" y="826920"/>
            <a:ext cx="182520" cy="182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68280" y="826920"/>
            <a:ext cx="182520" cy="182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1050840" y="826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1600200" y="826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1"/>
          <a:stretch/>
        </p:blipFill>
        <p:spPr>
          <a:xfrm>
            <a:off x="-4410000" y="201600"/>
            <a:ext cx="11160" cy="68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2"/>
          <a:stretch/>
        </p:blipFill>
        <p:spPr>
          <a:xfrm>
            <a:off x="-4413240" y="6170760"/>
            <a:ext cx="2685960" cy="799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380880" y="2514600"/>
            <a:ext cx="6172200" cy="3733920"/>
          </a:xfrm>
          <a:prstGeom prst="rect">
            <a:avLst/>
          </a:prstGeom>
          <a:ln w="41400">
            <a:solidFill>
              <a:srgbClr val="0000ff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14"/>
          <a:stretch/>
        </p:blipFill>
        <p:spPr>
          <a:xfrm>
            <a:off x="-2522520" y="308448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5"/>
          <a:stretch/>
        </p:blipFill>
        <p:spPr>
          <a:xfrm>
            <a:off x="-2522520" y="3344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6"/>
          <a:stretch/>
        </p:blipFill>
        <p:spPr>
          <a:xfrm>
            <a:off x="-2522520" y="3605040"/>
            <a:ext cx="182520" cy="182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086600" y="36576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ie jest bezpiecz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wag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jest bezpieczn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sem_c" descr=""/>
          <p:cNvPicPr/>
          <p:nvPr/>
        </p:nvPicPr>
        <p:blipFill>
          <a:blip r:embed="rId17"/>
          <a:stretch/>
        </p:blipFill>
        <p:spPr>
          <a:xfrm>
            <a:off x="6781680" y="37339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sem_z" descr=""/>
          <p:cNvPicPr/>
          <p:nvPr/>
        </p:nvPicPr>
        <p:blipFill>
          <a:blip r:embed="rId18"/>
          <a:stretch/>
        </p:blipFill>
        <p:spPr>
          <a:xfrm>
            <a:off x="6781680" y="39625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sem_zl" descr=""/>
          <p:cNvPicPr/>
          <p:nvPr/>
        </p:nvPicPr>
        <p:blipFill>
          <a:blip r:embed="rId19"/>
          <a:stretch/>
        </p:blipFill>
        <p:spPr>
          <a:xfrm>
            <a:off x="6781680" y="4191120"/>
            <a:ext cx="152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335772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3560" y="351000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DELE WZROSTU GOSPODARCZ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561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hanizm inflacji kosztowe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Mechanizm inflacji kosztowej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olega na nieustannym, kumulatywnym wzroście cen, kosztów, cen produktów pochodnych, zysków, płac, podatków, subwencji, it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spirala inflacyjna 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koszty 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ce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br>
              <a:rPr sz="8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 sprzężeniu tym zasadnicze znaczenie odgryw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spirala inflacyjna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łace  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  ce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zrost cen dotyczy między innymi dóbr i usług konsumpcyjnych. Oznacza to wzrost kosztów utrzymania i wywołuje presję na podwyżki płac (następuje proces urealnienia wynagrodzeń w odniesieniu do inflacyjnego wzrostu cen i tym samym kosztów utrzymania). Ponieważ płace są składnikiem kosztów, rosną koszty produkcji, w wyniku wzrostu kosztów wytwarzania rosną również ceny, itd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onadto wzrost płac oznacza również wzrost popytu konsumpcyjnego i uruchamia mechanizm inflacji popytowej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ści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niądza Fishe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3480" y="2511360"/>
          <a:ext cx="78073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511360"/>
                    <a:ext cx="78073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lacja 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jawis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zysto moneta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–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pogląd monetarystó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92280" y="2755800"/>
          <a:ext cx="7837200" cy="36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755800"/>
                    <a:ext cx="78372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cja w Polsce od 1993 – dane miesięcz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2276640"/>
          <a:ext cx="6408720" cy="409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408720" cy="40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67652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kle koniunktural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349360"/>
            <a:ext cx="81374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ykl koniunkturalny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 krótkookresowe wahania produkcji wokół tren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zy cyklu koniunkturaln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- ożywi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- rozkwit ( boom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- reces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- depresja (dno kryzys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Faza ożywieni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arakteryzuje się optymistycznymi nastrojami wśród inwestorów i przedsiębiorców, rosnącymi nakładami inwestycyjnymi, rosnącą produkcją, rosnącym zatrudnieniem, rosnącymi płacami, rosnącą konsumpcją. Popyt globalny rośnie szybciej niż podaż, towarzyszy temu wzrost cen oraz wzrost popytu na kredy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Faza recesj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 maleją wydatki inwestycyjne, maleje produkcja i zatrudnienie, rośnie bezrobocie, spada popyt konsumpcyjny. Popyt globalny maleje szybciej niż podaż, występuje nadprodukcja, obserwuje się spadek c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5-12T16:41:20Z</dcterms:modified>
  <cp:revision>628</cp:revision>
  <dc:subject/>
  <dc:title>POLITYKA STÓP PROCENTOWYCH. CEL INFLACYJNY I STABILIZACYJNY. </dc:title>
</cp:coreProperties>
</file>