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rutiger 45 Light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DACF00-2FD2-4CA5-9A90-4E7737279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ly status call with the Project Team on Monday, 2pm C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ly status report ema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racker updated a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ekly call may be extended to twice per week (Friday) if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hly” Project Board Mee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e Review (Meetings) as defined in C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 process esta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Business Management (bo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3F74-B63F-4780-8479-A08EBBD4F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720440"/>
            <a:ext cx="85870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4276080"/>
            <a:ext cx="85870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0CED-8F11-49C0-B9B9-DFA5A5156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72044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2200" y="172044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427608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2200" y="427608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A629-F5AE-41D5-9500-39004008F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1720440"/>
            <a:ext cx="2764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5320" y="1720440"/>
            <a:ext cx="2764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8720" y="1720440"/>
            <a:ext cx="2764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4276080"/>
            <a:ext cx="2764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5320" y="4276080"/>
            <a:ext cx="2764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8720" y="4276080"/>
            <a:ext cx="2764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BBF1-1308-4D9B-9414-B66052701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1920" y="1720440"/>
            <a:ext cx="858708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0ad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720440"/>
            <a:ext cx="858708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720440"/>
            <a:ext cx="4190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2200" y="1720440"/>
            <a:ext cx="4190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4080" y="64800"/>
            <a:ext cx="75740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0ad"/>
              </a:solidFill>
              <a:latin typeface="Frutiger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72044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2200" y="1720440"/>
            <a:ext cx="4190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1920" y="427608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1720440"/>
            <a:ext cx="858708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0ad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8995-8F2E-4ED2-97DA-A181971A8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720440"/>
            <a:ext cx="4190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2200" y="172044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2200" y="427608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72044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2200" y="172044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1920" y="4276080"/>
            <a:ext cx="85870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720440"/>
            <a:ext cx="85870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1920" y="4276080"/>
            <a:ext cx="85870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72044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2200" y="172044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427608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2200" y="427608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720440"/>
            <a:ext cx="2764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5320" y="1720440"/>
            <a:ext cx="2764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8720" y="1720440"/>
            <a:ext cx="2764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1920" y="4276080"/>
            <a:ext cx="2764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5320" y="4276080"/>
            <a:ext cx="2764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8720" y="4276080"/>
            <a:ext cx="2764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1720440"/>
            <a:ext cx="858708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8514-C6F1-447D-9D16-0DBC412D4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720440"/>
            <a:ext cx="4190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2200" y="1720440"/>
            <a:ext cx="4190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0C6A-74D4-4341-8168-82BE5B342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9072-6FF1-4D3A-B2DF-15B141DA7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4080" y="64800"/>
            <a:ext cx="75740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0ad"/>
              </a:solidFill>
              <a:latin typeface="Frutiger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3878-9A92-4A59-B4C9-585875A52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172044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2200" y="1720440"/>
            <a:ext cx="4190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427608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3950-ACCC-4211-AC03-5FCD1A8AE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720440"/>
            <a:ext cx="4190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2200" y="172044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2200" y="427608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7B2A-362B-4E5F-B78E-6FB2F4D11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172044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2200" y="1720440"/>
            <a:ext cx="4190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4276080"/>
            <a:ext cx="85870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3AC0-C8DF-44A2-9A5F-8FC39BE70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61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6400" y="227160"/>
            <a:ext cx="407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ff"/>
                </a:solidFill>
                <a:latin typeface="Frutiger 45 Light"/>
              </a:defRPr>
            </a:lvl1pPr>
          </a:lstStyle>
          <a:p>
            <a:pPr indent="0" algn="r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FA8A-D6C3-43E6-B729-FA824AC0C2D6}" type="slidenum">
              <a:rPr b="0" lang="en-US" sz="900" spc="-1" strike="noStrike">
                <a:solidFill>
                  <a:srgbClr val="0099ff"/>
                </a:solidFill>
                <a:latin typeface="Frutiger 45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utiger 45 Light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969240" y="5792760"/>
            <a:ext cx="2181240" cy="116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51920" y="1720440"/>
            <a:ext cx="858708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4960" indent="-17496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00b05a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  <a:p>
            <a:pPr lvl="1" marL="511920" indent="-16452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  <a:p>
            <a:pPr lvl="2" marL="848520" indent="-16416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00b05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  <a:p>
            <a:pPr lvl="3" marL="1185480" indent="-16416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  <a:p>
            <a:pPr lvl="4" marL="1577160" indent="-21924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  <a:p>
            <a:pPr lvl="5" marL="1577160" indent="-21924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  <a:p>
            <a:pPr lvl="6" marL="1577160" indent="-21924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23480" y="996840"/>
            <a:ext cx="630900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rutiger 45 Light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14280" y="6210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Frutiger 45 Light"/>
              </a:defRPr>
            </a:lvl1pPr>
          </a:lstStyle>
          <a:p>
            <a:pPr indent="0">
              <a:lnSpc>
                <a:spcPts val="1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98AC-B98A-405C-BDE0-00D3EF7AD2B2}" type="datetime3">
              <a:rPr b="0" lang="en-US" sz="1300" spc="-1" strike="noStrike">
                <a:solidFill>
                  <a:srgbClr val="ffffff"/>
                </a:solidFill>
                <a:latin typeface="Frutiger 45 Light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69240" y="5792760"/>
            <a:ext cx="2181240" cy="1163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00b05a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0ad"/>
                </a:solidFill>
                <a:latin typeface="Frutiger 45 Light"/>
              </a:rPr>
              <a:t>Click to edit the outline text format</a:t>
            </a:r>
            <a:endParaRPr b="0" lang="en-US" sz="3200" spc="-1" strike="noStrike">
              <a:solidFill>
                <a:srgbClr val="dbf0ad"/>
              </a:solidFill>
              <a:latin typeface="Frutiger 45 Light"/>
            </a:endParaRPr>
          </a:p>
          <a:p>
            <a:pPr lvl="1" marL="533520" indent="-171720"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 45 Ligh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utiger 45 Light"/>
            </a:endParaRPr>
          </a:p>
          <a:p>
            <a:pPr lvl="2" marL="3240" indent="709560" algn="ctr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b055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utiger 45 Light"/>
            </a:endParaRPr>
          </a:p>
          <a:p>
            <a:pPr lvl="3" marL="166680" indent="897120" algn="ctr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Clr>
                <a:srgbClr val="00b055"/>
              </a:buClr>
              <a:buFont typeface="Frutiger 45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Frutiger 45 Light"/>
            </a:endParaRPr>
          </a:p>
          <a:p>
            <a:pPr lvl="4" marL="352440" indent="1062000" algn="ctr">
              <a:lnSpc>
                <a:spcPts val="1899"/>
              </a:lnSpc>
              <a:spcBef>
                <a:spcPts val="451"/>
              </a:spcBef>
              <a:buClr>
                <a:srgbClr val="00b055"/>
              </a:buClr>
              <a:buFont typeface="Frutiger 45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5 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Frutiger 45 Light"/>
            </a:endParaRPr>
          </a:p>
          <a:p>
            <a:pPr lvl="5" marL="352440" indent="1062000">
              <a:spcBef>
                <a:spcPts val="451"/>
              </a:spcBef>
              <a:buClr>
                <a:srgbClr val="000000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5 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Frutiger 45 Light"/>
            </a:endParaRPr>
          </a:p>
          <a:p>
            <a:pPr lvl="6" marL="352440" indent="1062000">
              <a:spcBef>
                <a:spcPts val="451"/>
              </a:spcBef>
              <a:buClr>
                <a:srgbClr val="000000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5 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Frutiger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1800" y="1600200"/>
            <a:ext cx="76899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utiger 45 Light"/>
              </a:rPr>
              <a:t>Poland O4 –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Frutiger 45 Light"/>
              </a:rPr>
              <a:t>Project ARES</a:t>
            </a:r>
            <a:br>
              <a:rPr sz="6000"/>
            </a:br>
            <a:r>
              <a:rPr b="1" lang="en-US" sz="2800" spc="-1" strike="noStrike">
                <a:solidFill>
                  <a:srgbClr val="ffffff"/>
                </a:solidFill>
                <a:latin typeface="Frutiger 45 Light"/>
              </a:rPr>
              <a:t>Kick-off meeting – 14 March 2007</a:t>
            </a:r>
            <a:endParaRPr b="1" lang="en-US" sz="28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6343200"/>
            <a:ext cx="2163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dbf0ad"/>
                </a:solidFill>
                <a:latin typeface="Frutiger 45 Light"/>
              </a:rPr>
              <a:t>Danielle Nowakowski</a:t>
            </a:r>
            <a:endParaRPr b="0" lang="en-US" sz="1200" spc="-1" strike="noStrike">
              <a:solidFill>
                <a:srgbClr val="dbf0ad"/>
              </a:solidFill>
              <a:latin typeface="Frutiger 45 Light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dbf0ad"/>
                </a:solidFill>
                <a:latin typeface="Frutiger 45 Light"/>
              </a:rPr>
              <a:t>14 March 2007</a:t>
            </a:r>
            <a:endParaRPr b="0" lang="en-US" sz="1200" spc="-1" strike="noStrike">
              <a:solidFill>
                <a:srgbClr val="dbf0ad"/>
              </a:solidFill>
              <a:latin typeface="Frutiger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4080" y="21960"/>
            <a:ext cx="75740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utiger 45 Light"/>
              </a:rPr>
              <a:t>Scope – Project ARES, Phase 1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Frutiger 45 Light"/>
              </a:rPr>
              <a:t>Complete Go Live: July 07</a:t>
            </a:r>
            <a:endParaRPr b="1" lang="en-US" sz="28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26" name=""/>
          <p:cNvSpPr/>
          <p:nvPr/>
        </p:nvSpPr>
        <p:spPr>
          <a:xfrm>
            <a:off x="743040" y="1436760"/>
            <a:ext cx="8049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Frutiger 45 Light"/>
              </a:rPr>
              <a:t>On Handhelds: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~43 Account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Frutiger 45 Light"/>
              </a:rPr>
              <a:t>Head Office Management &amp;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1 Operations 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7 Unit Manag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1 Retail Operations L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15 Account Hand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1-2 MS&amp;P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Frutiger 45 Light"/>
              </a:rPr>
              <a:t>Connecting the field to the head office: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Hand Held &amp; Synchronization via lapt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981F-CF54-475B-87AD-725EB5461F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4080" y="21960"/>
            <a:ext cx="75740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utiger 45 Light"/>
              </a:rPr>
              <a:t>Scope – Project ARES, Phase 1 </a:t>
            </a:r>
            <a:r>
              <a:rPr b="1" lang="en-US" sz="2400" spc="-1" strike="noStrike">
                <a:solidFill>
                  <a:srgbClr val="ffffff"/>
                </a:solidFill>
                <a:latin typeface="Frutiger 45 Light"/>
              </a:rPr>
              <a:t>cont’d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Frutiger 45 Light"/>
              </a:rPr>
              <a:t>Complete Go Live: July 07</a:t>
            </a:r>
            <a:endParaRPr b="1" lang="en-US" sz="28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28" name=""/>
          <p:cNvSpPr/>
          <p:nvPr/>
        </p:nvSpPr>
        <p:spPr>
          <a:xfrm>
            <a:off x="1184400" y="1365120"/>
            <a:ext cx="735804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Sect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Automated Weekly Call Schedu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Promotions – OPTIMA &amp;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Distribution Checks &amp; Issu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Standard Territory &amp; Employe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Surveys for Initiatives by Br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Banner &amp; Store Assor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Operations Action Plan (OA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Local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Standard O4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Flexible work with In-Store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FB84-7CF3-4B2C-9CA3-366A6FAAE3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8456760" y="227160"/>
            <a:ext cx="40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D5A2-F754-4D6E-9AAB-E4AFDE9B67A8}" type="slidenum">
              <a:rPr b="0" lang="en-US" sz="900" spc="-1" strike="noStrike">
                <a:solidFill>
                  <a:srgbClr val="0099ff"/>
                </a:solidFill>
                <a:latin typeface="Frutiger 45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utiger 45 Light"/>
              </a:rPr>
              <a:t>Out of Scope – Project ARES</a:t>
            </a: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1680" y="1509840"/>
            <a:ext cx="87994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Expanded functionality</a:t>
            </a:r>
            <a:r>
              <a:rPr b="1" lang="en-US" sz="2400" spc="-1" strike="noStrike">
                <a:solidFill>
                  <a:srgbClr val="000000"/>
                </a:solidFill>
                <a:latin typeface="Frutiger 45 Ligh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Outsourced Sales R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Scanning and Picture-ta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Merchandiser Work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POSM stock-level calculation based on work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Transfer orders for PO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Advanced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External applications POSM and Merchandising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Complete incorporation of global best practices and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9A81-5BF1-4DD5-8110-1BA4BD0545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963720"/>
            <a:ext cx="8970840" cy="589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utiger 45 Light"/>
              </a:rPr>
              <a:t>Project Plan – Key Milestones</a:t>
            </a: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34" name=""/>
          <p:cNvSpPr/>
          <p:nvPr/>
        </p:nvSpPr>
        <p:spPr>
          <a:xfrm>
            <a:off x="52560" y="1430280"/>
            <a:ext cx="35812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ff"/>
                </a:solidFill>
                <a:latin typeface="Frutiger 45 Light"/>
              </a:rPr>
              <a:t>Discover – Project Establish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ff"/>
                </a:solidFill>
                <a:latin typeface="Frutiger 45 Light"/>
              </a:rPr>
              <a:t>Analysis &amp;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ff"/>
                </a:solidFill>
                <a:latin typeface="Frutiger 45 Light"/>
              </a:rPr>
              <a:t>Design Sign 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Frutiger 45 Light"/>
              </a:rPr>
              <a:t>Infrastructure &amp; Server Set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Frutiger 45 Light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Frutiger 45 Light"/>
              </a:rPr>
              <a:t>Business App’n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Frutiger 45 Light"/>
              </a:rPr>
              <a:t>Load O4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Frutiger 45 Light"/>
              </a:rPr>
              <a:t>System Integration Test (S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Frutiger 45 Light"/>
              </a:rPr>
              <a:t>User Acceptance Test (UAT) </a:t>
            </a:r>
            <a:r>
              <a:rPr b="1" lang="en-AU" sz="1400" spc="-1" strike="noStrike">
                <a:solidFill>
                  <a:srgbClr val="000000"/>
                </a:solidFill>
                <a:latin typeface="Frutiger 45 Ligh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Frutiger 45 Light"/>
              </a:rPr>
              <a:t>Training (18-22 June 2007)</a:t>
            </a:r>
            <a:r>
              <a:rPr b="1" lang="en-AU" sz="1400" spc="-1" strike="noStrike">
                <a:solidFill>
                  <a:srgbClr val="000000"/>
                </a:solidFill>
                <a:latin typeface="Frutiger 45 Ligh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Frutiger 45 Light"/>
              </a:rPr>
              <a:t>GO-LIVE (26 June 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Frutiger 45 Light"/>
              </a:rPr>
              <a:t>Post GO-L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Frutiger 45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05200" y="1049400"/>
            <a:ext cx="639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D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19360" y="1049400"/>
            <a:ext cx="838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J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72040" y="1049400"/>
            <a:ext cx="83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Fe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91240" y="1049400"/>
            <a:ext cx="83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M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65800" y="1050840"/>
            <a:ext cx="83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Ap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33760" y="1049400"/>
            <a:ext cx="0" cy="5410080"/>
          </a:xfrm>
          <a:prstGeom prst="line">
            <a:avLst/>
          </a:prstGeom>
          <a:ln w="12600">
            <a:solidFill>
              <a:srgbClr val="77777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86080" y="1049400"/>
            <a:ext cx="0" cy="5410080"/>
          </a:xfrm>
          <a:prstGeom prst="line">
            <a:avLst/>
          </a:prstGeom>
          <a:ln w="12600">
            <a:solidFill>
              <a:srgbClr val="77777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9960" y="1049400"/>
            <a:ext cx="0" cy="5410080"/>
          </a:xfrm>
          <a:prstGeom prst="line">
            <a:avLst/>
          </a:prstGeom>
          <a:ln w="12600">
            <a:solidFill>
              <a:srgbClr val="77777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00720" y="1049400"/>
            <a:ext cx="0" cy="5410080"/>
          </a:xfrm>
          <a:prstGeom prst="line">
            <a:avLst/>
          </a:prstGeom>
          <a:ln w="12600">
            <a:solidFill>
              <a:srgbClr val="77777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34240" y="1049400"/>
            <a:ext cx="0" cy="5410080"/>
          </a:xfrm>
          <a:prstGeom prst="line">
            <a:avLst/>
          </a:prstGeom>
          <a:ln w="12600">
            <a:solidFill>
              <a:srgbClr val="77777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39120" y="1049400"/>
            <a:ext cx="0" cy="541008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34360" y="871560"/>
            <a:ext cx="838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Frutiger 45 Light"/>
              </a:rPr>
              <a:t>Com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Frutiger 45 Light"/>
              </a:rPr>
              <a:t>ple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05920" y="1125360"/>
            <a:ext cx="0" cy="533412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4920" y="1049400"/>
            <a:ext cx="83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430280"/>
            <a:ext cx="8763120" cy="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09880" y="1627200"/>
            <a:ext cx="801720" cy="166680"/>
          </a:xfrm>
          <a:prstGeom prst="rect">
            <a:avLst/>
          </a:prstGeom>
          <a:gradFill rotWithShape="0">
            <a:gsLst>
              <a:gs pos="0">
                <a:srgbClr val="a67458"/>
              </a:gs>
              <a:gs pos="50000">
                <a:srgbClr val="ece2dc"/>
              </a:gs>
              <a:gs pos="100000">
                <a:srgbClr val="a674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5240" y="1506600"/>
            <a:ext cx="689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10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95760" y="1963800"/>
            <a:ext cx="1079280" cy="164880"/>
          </a:xfrm>
          <a:prstGeom prst="rect">
            <a:avLst/>
          </a:prstGeom>
          <a:gradFill rotWithShape="0">
            <a:gsLst>
              <a:gs pos="0">
                <a:srgbClr val="a67458"/>
              </a:gs>
              <a:gs pos="50000">
                <a:srgbClr val="ece2dc"/>
              </a:gs>
              <a:gs pos="100000">
                <a:srgbClr val="a674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35880" y="1938240"/>
            <a:ext cx="698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10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13920" y="158256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887480"/>
            <a:ext cx="876312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2268360"/>
            <a:ext cx="876312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2649600"/>
            <a:ext cx="876312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081240"/>
            <a:ext cx="876312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3462480"/>
            <a:ext cx="876312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843360"/>
            <a:ext cx="876312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4224240"/>
            <a:ext cx="876312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4605480"/>
            <a:ext cx="876312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986360"/>
            <a:ext cx="876312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5367240"/>
            <a:ext cx="876312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748480"/>
            <a:ext cx="876312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6129360"/>
            <a:ext cx="8763120" cy="0"/>
          </a:xfrm>
          <a:prstGeom prst="line">
            <a:avLst/>
          </a:prstGeom>
          <a:ln cap="rnd" w="1260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413920" y="193824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19600" y="2327400"/>
            <a:ext cx="220680" cy="168120"/>
          </a:xfrm>
          <a:prstGeom prst="rect">
            <a:avLst/>
          </a:prstGeom>
          <a:gradFill rotWithShape="0">
            <a:gsLst>
              <a:gs pos="0">
                <a:srgbClr val="a67458"/>
              </a:gs>
              <a:gs pos="50000">
                <a:srgbClr val="ece2dc"/>
              </a:gs>
              <a:gs pos="100000">
                <a:srgbClr val="a674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64320" y="2319480"/>
            <a:ext cx="669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413920" y="231948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86440" y="2789280"/>
            <a:ext cx="877680" cy="164880"/>
          </a:xfrm>
          <a:prstGeom prst="rect">
            <a:avLst/>
          </a:prstGeom>
          <a:gradFill rotWithShape="0">
            <a:gsLst>
              <a:gs pos="0">
                <a:srgbClr val="a67458"/>
              </a:gs>
              <a:gs pos="50000">
                <a:srgbClr val="ece2dc"/>
              </a:gs>
              <a:gs pos="100000">
                <a:srgbClr val="a674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4160" y="2738520"/>
            <a:ext cx="600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8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13920" y="273852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01120" y="318276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413920" y="318276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01120" y="352584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13920" y="352584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01120" y="391968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13920" y="39196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51800" y="4313160"/>
            <a:ext cx="64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13920" y="43131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01120" y="469440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13920" y="4694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920" y="51004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88080" y="5456160"/>
            <a:ext cx="64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13920" y="545616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3170160"/>
            <a:ext cx="674640" cy="206280"/>
          </a:xfrm>
          <a:prstGeom prst="rect">
            <a:avLst/>
          </a:prstGeom>
          <a:gradFill rotWithShape="0">
            <a:gsLst>
              <a:gs pos="0">
                <a:srgbClr val="a67458"/>
              </a:gs>
              <a:gs pos="50000">
                <a:srgbClr val="ece2dc"/>
              </a:gs>
              <a:gs pos="100000">
                <a:srgbClr val="a674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42120" y="3954600"/>
            <a:ext cx="441000" cy="179280"/>
          </a:xfrm>
          <a:prstGeom prst="rect">
            <a:avLst/>
          </a:prstGeom>
          <a:gradFill rotWithShape="0">
            <a:gsLst>
              <a:gs pos="0">
                <a:srgbClr val="a67458"/>
              </a:gs>
              <a:gs pos="50000">
                <a:srgbClr val="ece2dc"/>
              </a:gs>
              <a:gs pos="100000">
                <a:srgbClr val="a674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10560" y="5821200"/>
            <a:ext cx="588960" cy="192240"/>
          </a:xfrm>
          <a:prstGeom prst="rect">
            <a:avLst/>
          </a:prstGeom>
          <a:gradFill rotWithShape="0">
            <a:gsLst>
              <a:gs pos="0">
                <a:srgbClr val="a67458"/>
              </a:gs>
              <a:gs pos="50000">
                <a:srgbClr val="ece2dc"/>
              </a:gs>
              <a:gs pos="100000">
                <a:srgbClr val="a674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88080" y="5075280"/>
            <a:ext cx="64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7440" y="4327560"/>
            <a:ext cx="447840" cy="179280"/>
          </a:xfrm>
          <a:prstGeom prst="rect">
            <a:avLst/>
          </a:prstGeom>
          <a:gradFill rotWithShape="0">
            <a:gsLst>
              <a:gs pos="0">
                <a:srgbClr val="a67458"/>
              </a:gs>
              <a:gs pos="50000">
                <a:srgbClr val="ece2dc"/>
              </a:gs>
              <a:gs pos="100000">
                <a:srgbClr val="a674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18320" y="5348160"/>
            <a:ext cx="430200" cy="363600"/>
          </a:xfrm>
          <a:prstGeom prst="star5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76400" y="1049400"/>
            <a:ext cx="0" cy="5410080"/>
          </a:xfrm>
          <a:prstGeom prst="line">
            <a:avLst/>
          </a:prstGeom>
          <a:ln w="12600">
            <a:solidFill>
              <a:srgbClr val="77777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21400" y="1050840"/>
            <a:ext cx="0" cy="5410440"/>
          </a:xfrm>
          <a:prstGeom prst="line">
            <a:avLst/>
          </a:prstGeom>
          <a:ln w="12600">
            <a:solidFill>
              <a:srgbClr val="77777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38920" y="1052640"/>
            <a:ext cx="83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M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81800" y="1052640"/>
            <a:ext cx="83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Ju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40520" y="1054080"/>
            <a:ext cx="83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Ju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37280" y="1052640"/>
            <a:ext cx="0" cy="5410080"/>
          </a:xfrm>
          <a:prstGeom prst="line">
            <a:avLst/>
          </a:prstGeom>
          <a:ln w="12600">
            <a:solidFill>
              <a:srgbClr val="77777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8360" y="3557520"/>
            <a:ext cx="674640" cy="206280"/>
          </a:xfrm>
          <a:prstGeom prst="rect">
            <a:avLst/>
          </a:prstGeom>
          <a:gradFill rotWithShape="0">
            <a:gsLst>
              <a:gs pos="0">
                <a:srgbClr val="a67458"/>
              </a:gs>
              <a:gs pos="50000">
                <a:srgbClr val="ece2dc"/>
              </a:gs>
              <a:gs pos="100000">
                <a:srgbClr val="a674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56360" y="4686480"/>
            <a:ext cx="447480" cy="179280"/>
          </a:xfrm>
          <a:prstGeom prst="rect">
            <a:avLst/>
          </a:prstGeom>
          <a:gradFill rotWithShape="0">
            <a:gsLst>
              <a:gs pos="0">
                <a:srgbClr val="a67458"/>
              </a:gs>
              <a:gs pos="50000">
                <a:srgbClr val="ece2dc"/>
              </a:gs>
              <a:gs pos="100000">
                <a:srgbClr val="a674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7160" y="5073480"/>
            <a:ext cx="227160" cy="193680"/>
          </a:xfrm>
          <a:prstGeom prst="rect">
            <a:avLst/>
          </a:prstGeom>
          <a:gradFill rotWithShape="0">
            <a:gsLst>
              <a:gs pos="0">
                <a:srgbClr val="a67458"/>
              </a:gs>
              <a:gs pos="50000">
                <a:srgbClr val="ece2dc"/>
              </a:gs>
              <a:gs pos="100000">
                <a:srgbClr val="a674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18E8-C7AA-4B1F-AE7B-1682944EAD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92360" y="896760"/>
            <a:ext cx="620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Frutiger 45 Light"/>
              </a:rPr>
              <a:t>Project Approach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20880" y="1744560"/>
            <a:ext cx="377676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00b05a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45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rutiger 45 Light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00b05a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Frutiger 45 Light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Frutiger 45 Light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00b05a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Frutiger 45 Light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Frutiger 45 Light"/>
              </a:rPr>
              <a:t>Risk &amp;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00b05a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Frutiger 45 Light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Frutiger 45 Light"/>
              </a:rPr>
              <a:t>Scop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8456760" y="227160"/>
            <a:ext cx="40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C56A-7824-48B2-8A4B-DDBE96995565}" type="slidenum">
              <a:rPr b="0" lang="en-US" sz="900" spc="-1" strike="noStrike">
                <a:solidFill>
                  <a:srgbClr val="0099ff"/>
                </a:solidFill>
                <a:latin typeface="Frutiger 45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Frutiger 45 Light"/>
              </a:rPr>
              <a:t>Project </a:t>
            </a:r>
            <a:r>
              <a:rPr b="1" lang="it-IT" sz="3800" spc="-1" strike="noStrike">
                <a:solidFill>
                  <a:srgbClr val="ffffff"/>
                </a:solidFill>
                <a:latin typeface="Frutiger 45 Light"/>
              </a:rPr>
              <a:t>Approach – the Phases</a:t>
            </a:r>
            <a:endParaRPr b="1" lang="en-US" sz="38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3920" y="1379520"/>
            <a:ext cx="828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All O4 Projects are divided into pha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Phase 1 </a:t>
            </a:r>
            <a:r>
              <a:rPr b="0" lang="en-US" sz="2000" spc="-1" strike="noStrike">
                <a:solidFill>
                  <a:srgbClr val="0000ff"/>
                </a:solidFill>
                <a:latin typeface="Frutiger 45 Light"/>
              </a:rPr>
              <a:t>DISCOVER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(Business Case, Scope, Pl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Phase 2 </a:t>
            </a:r>
            <a:r>
              <a:rPr b="0" lang="en-US" sz="2000" spc="-1" strike="noStrike">
                <a:solidFill>
                  <a:srgbClr val="0000ff"/>
                </a:solidFill>
                <a:latin typeface="Frutiger 45 Light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(Analyze, De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Phase 3 </a:t>
            </a:r>
            <a:r>
              <a:rPr b="0" lang="en-US" sz="2000" spc="-1" strike="noStrike">
                <a:solidFill>
                  <a:srgbClr val="0000ff"/>
                </a:solidFill>
                <a:latin typeface="Frutiger 45 Light"/>
              </a:rPr>
              <a:t>QUALIFY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(Build, System Integration Test, Performance T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Phase 4 </a:t>
            </a:r>
            <a:r>
              <a:rPr b="0" lang="en-US" sz="2000" spc="-1" strike="noStrike">
                <a:solidFill>
                  <a:srgbClr val="0000ff"/>
                </a:solidFill>
                <a:latin typeface="Frutiger 45 Light"/>
              </a:rPr>
              <a:t>READY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(User Acceptance Test, Deplo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Phase 5 </a:t>
            </a:r>
            <a:r>
              <a:rPr b="0" lang="en-US" sz="2000" spc="-1" strike="noStrike">
                <a:solidFill>
                  <a:srgbClr val="0000ff"/>
                </a:solidFill>
                <a:latin typeface="Frutiger 45 Light"/>
              </a:rPr>
              <a:t>LAUNCH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(Post Deploy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87960" y="1631880"/>
            <a:ext cx="411120" cy="419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618080" y="1974960"/>
            <a:ext cx="399960" cy="4064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222120" y="3666960"/>
            <a:ext cx="828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We’ll check for quality at the end of each phase, looking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Stage Gate Criteria - 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Critical Path Schedule – Deliverables 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041720" y="3978360"/>
            <a:ext cx="411120" cy="419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5419800" y="4238640"/>
            <a:ext cx="411120" cy="4190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214200" y="4937040"/>
            <a:ext cx="828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Always looking out for risks &amp;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Look for Opportunities &amp; Threats to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Act to eliminate or reduc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839F-3E4D-4F3A-8EA4-449B5240F8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9680" y="50400"/>
            <a:ext cx="75740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Frutiger 45 Light"/>
              </a:rPr>
              <a:t>Open Communication</a:t>
            </a:r>
            <a:endParaRPr b="1" lang="en-US" sz="3400" spc="-1" strike="noStrike">
              <a:solidFill>
                <a:srgbClr val="ffffff"/>
              </a:solidFill>
              <a:latin typeface="Frutiger 45 Light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38040" y="2470320"/>
            <a:ext cx="8639280" cy="4273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29600" y="134316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Weekly Project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Board Reviews with M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Store major documents on the C&amp;CS Plant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2CE3-59CA-41FD-9E84-170811AF09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8456760" y="227160"/>
            <a:ext cx="40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05CB-575B-4F67-B4E6-6DF23DD482A1}" type="slidenum">
              <a:rPr b="0" lang="en-US" sz="900" spc="-1" strike="noStrike">
                <a:solidFill>
                  <a:srgbClr val="0099ff"/>
                </a:solidFill>
                <a:latin typeface="Frutiger 45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ff"/>
                </a:solidFill>
                <a:latin typeface="Frutiger 45 Light"/>
              </a:rPr>
              <a:t>Managing Scope &amp; Changes</a:t>
            </a:r>
            <a:endParaRPr b="1" lang="en-US" sz="3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23920" y="1422360"/>
            <a:ext cx="875340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The final Design Document has been signed of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We will investigate all requests for changes, and assess with O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Fea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Effort &amp;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Finally, decide if we should implement the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Business Justification (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Impact on quality, time, cost (including resour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1419-5699-4D8D-84A4-015699310B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Frutiger 45 Light"/>
              </a:rPr>
              <a:t>Next Steps</a:t>
            </a:r>
            <a:endParaRPr b="1" lang="en-US" sz="3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160" y="1401840"/>
            <a:ext cx="847260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00b05a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Frutiger 45 Light"/>
              </a:rPr>
              <a:t>Weekly Status Review – look for the updates!</a:t>
            </a:r>
            <a:endParaRPr b="0" lang="en-US" sz="3600" spc="-1" strike="noStrike">
              <a:solidFill>
                <a:srgbClr val="000000"/>
              </a:solidFill>
              <a:latin typeface="Frutiger 45 Light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00b05a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Frutiger 45 Light"/>
              </a:rPr>
              <a:t>Interface Design</a:t>
            </a:r>
            <a:endParaRPr b="0" lang="en-US" sz="3600" spc="-1" strike="noStrike">
              <a:solidFill>
                <a:srgbClr val="000000"/>
              </a:solidFill>
              <a:latin typeface="Frutiger 45 Light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CE7B-C57A-463D-BB16-4FFC602005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8456760" y="227160"/>
            <a:ext cx="40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64FB-D8A0-43BD-A183-88D3CB4765EA}" type="slidenum">
              <a:rPr b="0" lang="en-US" sz="900" spc="-1" strike="noStrike">
                <a:solidFill>
                  <a:srgbClr val="0099ff"/>
                </a:solidFill>
                <a:latin typeface="Frutiger 45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09520" y="2476440"/>
            <a:ext cx="8586720" cy="27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lnSpc>
                <a:spcPct val="110000"/>
              </a:lnSpc>
              <a:spcBef>
                <a:spcPts val="165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d232"/>
                </a:solidFill>
                <a:latin typeface="Frutiger 45 Light"/>
              </a:rPr>
              <a:t>Q&amp;A</a:t>
            </a:r>
            <a:endParaRPr b="0" lang="en-US" sz="6600" spc="-1" strike="noStrike">
              <a:solidFill>
                <a:srgbClr val="000000"/>
              </a:solidFill>
              <a:latin typeface="Frutiger 45 Light"/>
            </a:endParaRPr>
          </a:p>
          <a:p>
            <a:pPr marL="182520" indent="0" algn="ctr">
              <a:lnSpc>
                <a:spcPct val="110000"/>
              </a:lnSpc>
              <a:spcBef>
                <a:spcPts val="165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d232"/>
                </a:solidFill>
                <a:latin typeface="Frutiger 45 Light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846A-122F-4F84-94B1-CF38F1C9DE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Frutiger 45 Light"/>
              </a:rPr>
              <a:t>Agenda</a:t>
            </a:r>
            <a:endParaRPr b="1" lang="en-US" sz="34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92" name=""/>
          <p:cNvSpPr/>
          <p:nvPr/>
        </p:nvSpPr>
        <p:spPr>
          <a:xfrm>
            <a:off x="365040" y="1297080"/>
            <a:ext cx="846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Purpose of Kick-Off Meeting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5 m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Introduction &amp; Principles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5 m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Merchandising Initiative Progress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5 m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Review Progress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5 m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Team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Timing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Project Approach: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0 m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Risk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Project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Qualit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Scope Chang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Next Steps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5 m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0680" y="6438960"/>
            <a:ext cx="67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3daf"/>
                </a:solidFill>
                <a:latin typeface="Wingdings"/>
                <a:ea typeface="Wingdings"/>
              </a:rPr>
              <a:t></a:t>
            </a:r>
            <a:r>
              <a:rPr b="0" i="1" lang="it-IT" sz="1600" spc="-1" strike="noStrike">
                <a:solidFill>
                  <a:srgbClr val="003daf"/>
                </a:solidFill>
                <a:latin typeface="Tahoma"/>
              </a:rPr>
              <a:t> </a:t>
            </a:r>
            <a:r>
              <a:rPr b="0" i="1" lang="it-IT" sz="1600" spc="-1" strike="noStrike">
                <a:solidFill>
                  <a:srgbClr val="003daf"/>
                </a:solidFill>
                <a:latin typeface="Tahoma"/>
              </a:rPr>
              <a:t>Please feel free to ask questions during the presentation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FAC5-6089-48F3-8FA8-BEBBF5639E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-23760" y="3240"/>
            <a:ext cx="9167760" cy="685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9F24-6304-4682-A6E3-6AE17D57B9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utiger 45 Light"/>
              </a:rPr>
              <a:t>Purpose of Kick-Off Meeting</a:t>
            </a: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5760" y="1463400"/>
            <a:ext cx="8472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b05a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Frutiger 45 Light"/>
              </a:rPr>
              <a:t>Review Progress to Date</a:t>
            </a: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b05a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Frutiger 45 Light"/>
              </a:rPr>
              <a:t>Review &amp; Align to Project Approach</a:t>
            </a: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b05a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utiger 45 Light"/>
              </a:rPr>
              <a:t>Officially move into the BUILD Phase!</a:t>
            </a: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b05a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Frutiger 45 Light"/>
              </a:rPr>
              <a:t>Agree on Next Steps</a:t>
            </a: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02E9-868D-48E5-89FE-A7C241D029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456760" y="227160"/>
            <a:ext cx="40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EF65-5568-40F3-B305-C32E1FDE2420}" type="slidenum">
              <a:rPr b="0" lang="en-US" sz="900" spc="-1" strike="noStrike">
                <a:solidFill>
                  <a:srgbClr val="0099ff"/>
                </a:solidFill>
                <a:latin typeface="Frutiger 45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Frutiger 45 Light"/>
              </a:rPr>
              <a:t>Introductions</a:t>
            </a: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9520" y="2476440"/>
            <a:ext cx="8586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lnSpc>
                <a:spcPct val="110000"/>
              </a:lnSpc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d232"/>
                </a:solidFill>
                <a:latin typeface="Frutiger 45 Light"/>
              </a:rPr>
              <a:t>Who’s in the call?</a:t>
            </a:r>
            <a:endParaRPr b="0" lang="en-US" sz="5400" spc="-1" strike="noStrike">
              <a:solidFill>
                <a:srgbClr val="000000"/>
              </a:solidFill>
              <a:latin typeface="Frutiger 45 Ligh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05160" y="3943440"/>
            <a:ext cx="179712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3520-D1CB-4215-9C96-75D312B691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2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6760" y="0"/>
            <a:ext cx="2127240" cy="6858000"/>
          </a:xfrm>
          <a:prstGeom prst="rect">
            <a:avLst/>
          </a:prstGeom>
          <a:solidFill>
            <a:srgbClr val="7cd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rot="10800000">
            <a:off x="6901200" y="0"/>
            <a:ext cx="4295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ffffff"/>
                </a:solidFill>
                <a:latin typeface="Frutiger 45 Light"/>
              </a:rPr>
              <a:t>Principles</a:t>
            </a: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459080"/>
            <a:ext cx="84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Frutiger 45 Light"/>
              </a:rPr>
              <a:t>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84320" y="1722600"/>
            <a:ext cx="58150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609480" indent="-60948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Frutiger 45 Light"/>
              </a:rPr>
              <a:t>Accoun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84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Frutiger 45 Light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05040" y="531720"/>
            <a:ext cx="5814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Frutiger 45 Light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Frutiger 45 Light"/>
              </a:rPr>
              <a:t>Alig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75120"/>
            <a:ext cx="84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Frutiger 45 Light"/>
              </a:rPr>
              <a:t>3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87480" y="3693960"/>
            <a:ext cx="58150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Frutiger 45 Light"/>
              </a:rPr>
              <a:t>Commi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2218680" y="496440"/>
            <a:ext cx="841320" cy="21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 baseline="-25000">
                <a:solidFill>
                  <a:srgbClr val="ffffff"/>
                </a:solidFill>
                <a:latin typeface="Frutiger 45 Light"/>
              </a:rPr>
              <a:t>+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220840" y="2055600"/>
            <a:ext cx="841320" cy="21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 baseline="-25000">
                <a:solidFill>
                  <a:srgbClr val="ffffff"/>
                </a:solidFill>
                <a:latin typeface="Frutiger 45 Light"/>
              </a:rPr>
              <a:t>+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606240" y="4872960"/>
            <a:ext cx="841320" cy="21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 baseline="-25000">
                <a:solidFill>
                  <a:srgbClr val="ffffff"/>
                </a:solidFill>
                <a:latin typeface="Frutiger 45 Light"/>
              </a:rPr>
              <a:t>=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50800" y="5087880"/>
            <a:ext cx="58150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Frutiger 45 Light"/>
              </a:rPr>
              <a:t>Successful Team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8C33-9BF9-4EB7-ABF9-AB4E98A22E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1240" y="-49680"/>
            <a:ext cx="8134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utiger 45 Light"/>
              </a:rPr>
              <a:t>Merchandising Initiative Background</a:t>
            </a: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14" name=""/>
          <p:cNvSpPr/>
          <p:nvPr/>
        </p:nvSpPr>
        <p:spPr>
          <a:xfrm>
            <a:off x="182520" y="1349280"/>
            <a:ext cx="828216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Portugal identified as first pilot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Capability; Action Notification &amp; Au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Poland and Canada identified as the next pilot markets: end of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Q4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USA Design is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utiger 45 Light"/>
              </a:rPr>
              <a:t>Successful adoption in the Pilot markets will qualify the application to become the global solu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4"/>
          <p:cNvSpPr/>
          <p:nvPr/>
        </p:nvSpPr>
        <p:spPr>
          <a:xfrm>
            <a:off x="203040" y="584280"/>
            <a:ext cx="63597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Frutiger 45 Light"/>
              </a:rPr>
              <a:t>Retail Excellence:  Our pioneering solutions empower Retail Experts in all corners of the world to win at the First Moment Of Truth every t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634B-69D7-428E-A367-1C168C40AD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77840" y="896760"/>
            <a:ext cx="7574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Frutiger 45 Light"/>
              </a:rPr>
              <a:t>Progress so far - Po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20880" y="1744560"/>
            <a:ext cx="377676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00b05a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45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rutiger 45 Light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00b05a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Frutiger 45 Light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Frutiger 45 Light"/>
              </a:rPr>
              <a:t>Project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00b05a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Frutiger 45 Light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Frutiger 45 Light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00b05a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Frutiger 45 Light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Frutiger 45 Light"/>
              </a:rPr>
              <a:t>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1240" y="-49680"/>
            <a:ext cx="8134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utiger 45 Light"/>
              </a:rPr>
              <a:t>Poland Project Objective</a:t>
            </a: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19" name=""/>
          <p:cNvSpPr/>
          <p:nvPr/>
        </p:nvSpPr>
        <p:spPr>
          <a:xfrm>
            <a:off x="262080" y="130644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Frutiger 45 Light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b055"/>
              </a:buClr>
              <a:buFont typeface="Frutiger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Poland wants a simple and effective tool to drive traditional Retail Excellen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0000" y="2816280"/>
            <a:ext cx="844524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rutiger 45 Light"/>
              </a:rPr>
              <a:t>The delivery of a Store Connect solution will allow Poland to</a:t>
            </a: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Frutiger 45 Light"/>
              </a:rPr>
              <a:t>1. Meet Key Objectives of Retail Operations: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Frutiger 45 Light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5 Light"/>
              </a:rPr>
              <a:t>Increase capac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Frutiger 45 Light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5 Light"/>
              </a:rPr>
              <a:t>Clearly set pri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Frutiger 45 Light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5 Light"/>
              </a:rPr>
              <a:t>Continuity of experiences for HQ &amp;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Frutiger 45 Light"/>
              </a:rPr>
              <a:t>2. Meet Key Objectives of CB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Frutiger 45 Light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5 Light"/>
              </a:rPr>
              <a:t>Win for P&amp;G in st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Frutiger 45 Light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5 Light"/>
              </a:rPr>
              <a:t>Build local busines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Frutiger 45 Light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5 Light"/>
              </a:rPr>
              <a:t>Fast, quality data to CB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3EC6-FA6C-4BCF-86B9-75BB4F1B19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4080" y="64800"/>
            <a:ext cx="75740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utiger 45 Light"/>
              </a:rPr>
              <a:t>Team Structure – Project ARES</a:t>
            </a:r>
            <a:endParaRPr b="1" lang="en-US" sz="3600" spc="-1" strike="noStrike">
              <a:solidFill>
                <a:srgbClr val="ffffff"/>
              </a:solidFill>
              <a:latin typeface="Frutiger 45 Light"/>
            </a:endParaRPr>
          </a:p>
        </p:txBody>
      </p:sp>
      <p:sp>
        <p:nvSpPr>
          <p:cNvPr id="122" name=""/>
          <p:cNvSpPr/>
          <p:nvPr/>
        </p:nvSpPr>
        <p:spPr>
          <a:xfrm>
            <a:off x="277920" y="1444680"/>
            <a:ext cx="8663040" cy="1316160"/>
          </a:xfrm>
          <a:prstGeom prst="rect">
            <a:avLst/>
          </a:prstGeom>
          <a:gradFill rotWithShape="0">
            <a:gsLst>
              <a:gs pos="0">
                <a:srgbClr val="7cc37c"/>
              </a:gs>
              <a:gs pos="50000">
                <a:srgbClr val="91e391"/>
              </a:gs>
              <a:gs pos="100000">
                <a:srgbClr val="7cc37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687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000000"/>
                </a:solidFill>
                <a:uFillTx/>
                <a:latin typeface="Frutiger 45 Light"/>
              </a:rPr>
              <a:t>Project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Cuneyt Yavuz, </a:t>
            </a:r>
            <a:r>
              <a:rPr b="1" lang="en-US" sz="1600" spc="-1" strike="noStrike">
                <a:solidFill>
                  <a:srgbClr val="000000"/>
                </a:solidFill>
                <a:latin typeface="Frutiger 45 Light"/>
              </a:rPr>
              <a:t>Richard Reed, Marcin Szlapski, Marcin Brzozowski</a:t>
            </a: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Thilo Press, </a:t>
            </a:r>
            <a:r>
              <a:rPr b="1" lang="en-US" sz="1600" spc="-1" strike="noStrike">
                <a:solidFill>
                  <a:srgbClr val="000000"/>
                </a:solidFill>
                <a:latin typeface="Frutiger 45 Light"/>
              </a:rPr>
              <a:t>Evgueni Iagniatinski</a:t>
            </a: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 , </a:t>
            </a:r>
            <a:r>
              <a:rPr b="1" lang="en-US" sz="1600" spc="-1" strike="noStrike">
                <a:solidFill>
                  <a:srgbClr val="000000"/>
                </a:solidFill>
                <a:latin typeface="Frutiger 45 Light"/>
              </a:rPr>
              <a:t>Martin Chlad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Karen Winney,  Stephen Marosi</a:t>
            </a: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00" y="2862360"/>
            <a:ext cx="4659120" cy="3035160"/>
          </a:xfrm>
          <a:prstGeom prst="rect">
            <a:avLst/>
          </a:prstGeom>
          <a:gradFill rotWithShape="0">
            <a:gsLst>
              <a:gs pos="0">
                <a:srgbClr val="7cc37c"/>
              </a:gs>
              <a:gs pos="50000">
                <a:srgbClr val="91e391"/>
              </a:gs>
              <a:gs pos="100000">
                <a:srgbClr val="7cc37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687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Jarek Gula  </a:t>
            </a:r>
            <a:r>
              <a:rPr b="0" lang="en-GB" sz="1600" spc="-1" strike="noStrike">
                <a:solidFill>
                  <a:srgbClr val="000000"/>
                </a:solidFill>
                <a:latin typeface="Frutiger 45 Light"/>
              </a:rPr>
              <a:t>(Local Project Manager- E2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Martin Chladek  </a:t>
            </a:r>
            <a:r>
              <a:rPr b="0" lang="en-GB" sz="1600" spc="-1" strike="noStrike">
                <a:solidFill>
                  <a:srgbClr val="000000"/>
                </a:solidFill>
                <a:latin typeface="Frutiger 45 Light"/>
              </a:rPr>
              <a:t>(CEEMEA Service Manag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Dave Barker  </a:t>
            </a:r>
            <a:r>
              <a:rPr b="0" lang="en-GB" sz="1600" spc="-1" strike="noStrike">
                <a:solidFill>
                  <a:srgbClr val="000000"/>
                </a:solidFill>
                <a:latin typeface="Frutiger 45 Light"/>
              </a:rPr>
              <a:t>(Project Manager O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Kuba Kocinski </a:t>
            </a:r>
            <a:r>
              <a:rPr b="0" lang="en-GB" sz="1600" spc="-1" strike="noStrike">
                <a:solidFill>
                  <a:srgbClr val="000000"/>
                </a:solidFill>
                <a:latin typeface="Frutiger 45 Light"/>
              </a:rPr>
              <a:t>(Store Connect Application Own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Jutta Dries </a:t>
            </a:r>
            <a:r>
              <a:rPr b="0" lang="en-AU" sz="1600" spc="-1" strike="noStrike">
                <a:solidFill>
                  <a:srgbClr val="000000"/>
                </a:solidFill>
                <a:latin typeface="Frutiger 45 Light"/>
              </a:rPr>
              <a:t>(Poland S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Brian Beck  </a:t>
            </a:r>
            <a:r>
              <a:rPr b="0" lang="en-GB" sz="1600" spc="-1" strike="noStrike">
                <a:solidFill>
                  <a:srgbClr val="000000"/>
                </a:solidFill>
                <a:latin typeface="Frutiger 45 Light"/>
              </a:rPr>
              <a:t>(Store Connect Engine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Richard Lancaster  </a:t>
            </a:r>
            <a:r>
              <a:rPr b="0" lang="en-GB" sz="1600" spc="-1" strike="noStrike">
                <a:solidFill>
                  <a:srgbClr val="000000"/>
                </a:solidFill>
                <a:latin typeface="Frutiger 45 Light"/>
              </a:rPr>
              <a:t>(Store Connect Retail Analysis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utiger 45 Light"/>
              </a:rPr>
              <a:t>Danielle Nowakowski  </a:t>
            </a:r>
            <a:r>
              <a:rPr b="0" lang="en-GB" sz="1600" spc="-1" strike="noStrike">
                <a:solidFill>
                  <a:srgbClr val="000000"/>
                </a:solidFill>
                <a:latin typeface="Frutiger 45 Light"/>
              </a:rPr>
              <a:t>(Delivery Manager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1400" y="2855880"/>
            <a:ext cx="4394160" cy="3067200"/>
          </a:xfrm>
          <a:prstGeom prst="rect">
            <a:avLst/>
          </a:prstGeom>
          <a:gradFill rotWithShape="0">
            <a:gsLst>
              <a:gs pos="0">
                <a:srgbClr val="7cc37c"/>
              </a:gs>
              <a:gs pos="50000">
                <a:srgbClr val="91e391"/>
              </a:gs>
              <a:gs pos="100000">
                <a:srgbClr val="7cc37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687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Adam Turczak </a:t>
            </a:r>
            <a:r>
              <a:rPr b="0" lang="en-AU" sz="1600" spc="-1" strike="noStrike">
                <a:solidFill>
                  <a:srgbClr val="000000"/>
                </a:solidFill>
                <a:latin typeface="Frutiger 45 Light"/>
              </a:rPr>
              <a:t>(Key Stakeholder – Retail O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Arek Korba </a:t>
            </a:r>
            <a:r>
              <a:rPr b="0" lang="en-AU" sz="1600" spc="-1" strike="noStrike">
                <a:solidFill>
                  <a:srgbClr val="000000"/>
                </a:solidFill>
                <a:latin typeface="Frutiger 45 Light"/>
              </a:rPr>
              <a:t>(Key User – Unit Manag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Inga Gniadek  </a:t>
            </a:r>
            <a:r>
              <a:rPr b="0" lang="en-AU" sz="1600" spc="-1" strike="noStrike">
                <a:solidFill>
                  <a:srgbClr val="000000"/>
                </a:solidFill>
                <a:latin typeface="Frutiger 45 Light"/>
              </a:rPr>
              <a:t>(Key User – Account Manag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Stephan Leber </a:t>
            </a:r>
            <a:r>
              <a:rPr b="0" lang="en-AU" sz="1600" spc="-1" strike="noStrike">
                <a:solidFill>
                  <a:srgbClr val="000000"/>
                </a:solidFill>
                <a:latin typeface="Frutiger 45 Light"/>
              </a:rPr>
              <a:t>(QA &amp; Te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Frutiger 45 Light"/>
              </a:rPr>
              <a:t>Gate Review Team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 45 Light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Frutiger 45 Light"/>
              </a:rPr>
              <a:t>Adam Turczak,</a:t>
            </a: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utiger 45 Light"/>
              </a:rPr>
              <a:t>Martin Chlade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 45 Light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Frutiger 45 Light"/>
              </a:rPr>
              <a:t>Evgueni Iagniatinski, Jarek Gul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 45 Light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Frutiger 45 Light"/>
              </a:rPr>
              <a:t>Danielle Nowakow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Frutiger 45 Light"/>
              </a:rPr>
              <a:t>Karen Winney </a:t>
            </a:r>
            <a:r>
              <a:rPr b="0" lang="en-AU" sz="1600" spc="-1" strike="noStrike">
                <a:solidFill>
                  <a:srgbClr val="000000"/>
                </a:solidFill>
                <a:latin typeface="Frutiger 45 Light"/>
              </a:rPr>
              <a:t>(Decision mak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394F-2408-47F5-A828-C105397192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02:57:21Z</dcterms:created>
  <dc:creator>johnson</dc:creator>
  <dc:description/>
  <dc:language>en-US</dc:language>
  <cp:lastModifiedBy>AJ6788</cp:lastModifiedBy>
  <dcterms:modified xsi:type="dcterms:W3CDTF">2008-03-10T12:37:14Z</dcterms:modified>
  <cp:revision>476</cp:revision>
  <dc:subject/>
  <dc:title>PowerPoint Presentation</dc:title>
</cp:coreProperties>
</file>