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777240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2</a:t>
            </a:r>
            <a:br>
              <a:rPr sz="2800"/>
            </a:br>
            <a:br>
              <a:rPr sz="1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RÓWNOWAGA NA RYNKU DÓBR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Z UWZGLĘDNIENIEM BUDŻETU PAŃSTWA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 HANDLU ZAGRANICZNE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1628640"/>
            <a:ext cx="79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łożenia w gospodarce otwarte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492280"/>
            <a:ext cx="24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205000"/>
            <a:ext cx="8064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Założenia upraszczają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westycj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ją charakter autonomiczny, nie zależą od dochodu narodow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datki budżetow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ją charakter autonomicz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kspor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 charakter autonomicz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jest wprost proporcjonalny do dochodu narodow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epełne wykorzystanie zdolności produkcyj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ecnie analizujemy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wszystkie cztery składniki popytu globalneg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konsumpcję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nwestycje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ydatki budżetu państwa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eksport netto (saldo handlu zagranicznego)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Ex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 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4797360"/>
            <a:ext cx="3240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pl-PL" sz="2000" spc="-1" strike="noStrike">
                <a:solidFill>
                  <a:srgbClr val="ff0000"/>
                </a:solidFill>
                <a:latin typeface="Times New Roman"/>
              </a:rPr>
              <a:t> C + I + G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pl-PL" sz="20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pl-PL" sz="2000" spc="-1" strike="noStrike">
                <a:solidFill>
                  <a:srgbClr val="ff0000"/>
                </a:solidFill>
                <a:latin typeface="Times New Roman"/>
              </a:rPr>
              <a:t> Ex – Im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0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względnienie handlu zagraniczne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33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349360"/>
            <a:ext cx="345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Funkcja importu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im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hód narod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– krańcowa skłonność do impor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187280" y="4581360"/>
                <a:ext cx="100836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79280" y="5373720"/>
            <a:ext cx="38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rańcowa skłonność do importu (krańcowa importochłonność produkcji) oznacza o ile wzrośnie import w gospodarce w wyniku jednostkowego wzrostu produkcji (dochodu narodowego)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67280" y="2708280"/>
          <a:ext cx="4897440" cy="35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708280"/>
                    <a:ext cx="4897440" cy="3529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ównowaga między popytem a podażą w gospodarce otwarte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43280" y="2276640"/>
          <a:ext cx="6121440" cy="439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6121440" cy="439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7040" y="2781360"/>
                <a:ext cx="2362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080" y="4437000"/>
                <a:ext cx="23526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ównowaga:  inwestycje plus wydatki budżetowe plus eksport = oszczędności plus podatki netto plus impor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0920" y="3141720"/>
                <a:ext cx="3097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9640" y="4581360"/>
                <a:ext cx="2482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00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33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195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635280" y="2565360"/>
          <a:ext cx="5226120" cy="362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565360"/>
                    <a:ext cx="5226120" cy="3627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ożnik handlu zagraniczne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4200" y="2235240"/>
          <a:ext cx="7794360" cy="47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235240"/>
                    <a:ext cx="77943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3357720"/>
            <a:ext cx="77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następnym wykła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RÓWNOWAGA NA RYNKU PIENIĄD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względniamy budżet państw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2421000"/>
          <a:ext cx="7775280" cy="42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21000"/>
                    <a:ext cx="77752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kcja konsumpcji z uwzględnieniem podatkó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997360"/>
            <a:ext cx="3456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(1 – t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owane wydatki na konsumpcj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zny poziom konsump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hód narodo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ńcowa skłonność do konsump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a podatkowa n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2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708360" y="2421000"/>
          <a:ext cx="5256360" cy="41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421000"/>
                    <a:ext cx="5256360" cy="417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- założe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565360"/>
            <a:ext cx="8064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Założenia upraszczają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westycje mają charakter autonomiczny, nie zależą od dochodu narodow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ydatki budżetow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ją charakter autonomicz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epełne wykorzystanie zdolności produkcyj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ecnie analizujemy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rzy składniki popytu globalneg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konsumpcję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nwestycje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ydatki budżetu państw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3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5734080"/>
            <a:ext cx="1871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pl-PL" sz="2000" spc="-1" strike="noStrike">
                <a:solidFill>
                  <a:srgbClr val="ff0000"/>
                </a:solidFill>
                <a:latin typeface="Times New Roman"/>
              </a:rPr>
              <a:t> C + I + G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ównowaga z uwzględnieniem budżetu państw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39640" y="4221000"/>
                <a:ext cx="2016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39640" y="2708280"/>
                <a:ext cx="201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2916360" y="2276640"/>
          <a:ext cx="5975280" cy="439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76640"/>
                    <a:ext cx="5975280" cy="439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ównowaga:  inwestycje plus wydatki budżetowe = oszczędności plus podatki n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0920" y="3284640"/>
                <a:ext cx="2520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4000" y="4653000"/>
                <a:ext cx="2374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00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3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87640" y="2349360"/>
          <a:ext cx="597708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349360"/>
                    <a:ext cx="5977080" cy="424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ożnik budżetow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1628640"/>
            <a:ext cx="921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5640" y="2241720"/>
          <a:ext cx="7907400" cy="46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41720"/>
                    <a:ext cx="790740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ożnik zrównoważonego budżetu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349360"/>
          <a:ext cx="7619760" cy="42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761976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iza symulacyjna z wykorzystaniem modelu mnożnika budżetowe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924280"/>
            <a:ext cx="77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Jak wzrost (spadek) wydatków budżetowych państwa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pływa na wzrost dochodu narodowego w gospodar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Jak wzrost (spadek) opodatkowania wpływa na wzr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 gospodar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utomatyczne stabiliz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 aktywna (dyskrecjonalna) polityka fiska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2-25T18:59:23Z</dcterms:modified>
  <cp:revision>458</cp:revision>
  <dc:subject/>
  <dc:title>POLITYKA STÓP PROCENTOWYCH. CEL INFLACYJNY I STABILIZACYJNY. </dc:title>
</cp:coreProperties>
</file>