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C9EA-242B-4BEA-952F-D790007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E95D-B0AF-4341-9B16-2E7E9AA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6012-EDFF-4300-8AA3-74E457B7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E3B5-DDD1-4422-A650-93A4C148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C83-DACD-4FE6-99D8-C9F934B4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703-08D1-4214-9429-55902EF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795-435E-4417-9BAB-E19C2F0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8E1-B690-4852-A3DA-07E5455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9808-C7DD-4A2F-9ADA-98DB36F8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82E7-4107-4280-B73F-42B2287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A88-7899-4196-9055-FFF9E14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5A1F-F4F9-48EC-96BC-8552171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76AD-64F0-4077-9429-A8B3462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86D9-05F1-43F0-8BEB-471A0A4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3CA-5D49-4C5A-9AC6-93AEAA5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E91-2E9D-4AFE-AA94-EDDCC9F9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FBDB-B5C5-4C25-9967-9DA40782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0C53-1A17-4687-A247-A576ECF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7885-0DB4-47F9-8F02-86F06E2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E4D8-B580-4273-A8AE-3B08094D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046B-3553-46F1-A607-E3D58D0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0F79-900C-4D17-BA84-312DC7BB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A2F2-FF48-4F27-9EFB-D53E08D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C206-4AB8-4D5F-9399-E6732C4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3D00-D3DB-4C9F-98AD-2D91903BEF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19A2-A2E5-4D6C-A443-95D98DA0CC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RMA HOSTINGOW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58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kt przygotowal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ławomir Chodkiewic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in Gór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fał Roks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95280" y="1557720"/>
            <a:ext cx="8216640" cy="4788360"/>
            <a:chOff x="395280" y="1557720"/>
            <a:chExt cx="8216640" cy="4788360"/>
          </a:xfrm>
        </p:grpSpPr>
        <p:cxnSp>
          <p:nvCxnSpPr>
            <p:cNvPr id="558" name="_s39979"/>
            <p:cNvCxnSpPr>
              <a:stCxn id="559" idx="1"/>
              <a:endCxn id="560" idx="3"/>
            </p:cNvCxnSpPr>
            <p:nvPr/>
          </p:nvCxnSpPr>
          <p:spPr>
            <a:xfrm flipH="1" rot="10800000">
              <a:off x="5085720" y="3933360"/>
              <a:ext cx="2878200" cy="1908720"/>
            </a:xfrm>
            <a:prstGeom prst="bentConnector5">
              <a:avLst>
                <a:gd name="adj1" fmla="val -3965"/>
                <a:gd name="adj2" fmla="val 50914"/>
                <a:gd name="adj3" fmla="val 1115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39977"/>
            <p:cNvCxnSpPr>
              <a:stCxn id="560" idx="1"/>
              <a:endCxn id="562" idx="3"/>
            </p:cNvCxnSpPr>
            <p:nvPr/>
          </p:nvCxnSpPr>
          <p:spPr>
            <a:xfrm flipV="1" rot="10800000">
              <a:off x="3933000" y="3933720"/>
              <a:ext cx="649080" cy="1432800"/>
            </a:xfrm>
            <a:prstGeom prst="bentConnector3">
              <a:avLst>
                <a:gd name="adj1" fmla="val 176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39964"/>
            <p:cNvCxnSpPr>
              <a:stCxn id="564" idx="1"/>
              <a:endCxn id="562" idx="3"/>
            </p:cNvCxnSpPr>
            <p:nvPr/>
          </p:nvCxnSpPr>
          <p:spPr>
            <a:xfrm flipV="1" rot="10800000">
              <a:off x="3933000" y="2769840"/>
              <a:ext cx="649080" cy="2595960"/>
            </a:xfrm>
            <a:prstGeom prst="bentConnector3">
              <a:avLst>
                <a:gd name="adj1" fmla="val 176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39962"/>
            <p:cNvCxnSpPr>
              <a:stCxn id="562" idx="0"/>
              <a:endCxn id="566" idx="2"/>
            </p:cNvCxnSpPr>
            <p:nvPr/>
          </p:nvCxnSpPr>
          <p:spPr>
            <a:xfrm flipV="1">
              <a:off x="2279880" y="4595040"/>
              <a:ext cx="3600" cy="382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7" name="_s39960"/>
            <p:cNvCxnSpPr>
              <a:stCxn id="566" idx="0"/>
              <a:endCxn id="568" idx="2"/>
            </p:cNvCxnSpPr>
            <p:nvPr/>
          </p:nvCxnSpPr>
          <p:spPr>
            <a:xfrm flipV="1">
              <a:off x="2279880" y="3517560"/>
              <a:ext cx="3600" cy="309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9" name="_s39955"/>
            <p:cNvCxnSpPr>
              <a:stCxn id="568" idx="0"/>
              <a:endCxn id="570" idx="2"/>
            </p:cNvCxnSpPr>
            <p:nvPr/>
          </p:nvCxnSpPr>
          <p:spPr>
            <a:xfrm flipV="1" rot="16200000">
              <a:off x="2064240" y="2458800"/>
              <a:ext cx="241560" cy="189720"/>
            </a:xfrm>
            <a:prstGeom prst="bentConnector3">
              <a:avLst>
                <a:gd name="adj1" fmla="val 47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_s39951"/>
            <p:cNvSpPr/>
            <p:nvPr/>
          </p:nvSpPr>
          <p:spPr>
            <a:xfrm>
              <a:off x="395280" y="1557720"/>
              <a:ext cx="3391560" cy="87588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głoszenie się do programu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kubator Przedsiębiorczoś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_s39952"/>
            <p:cNvSpPr/>
            <p:nvPr/>
          </p:nvSpPr>
          <p:spPr>
            <a:xfrm>
              <a:off x="622440" y="2674800"/>
              <a:ext cx="3311280" cy="8424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ypełnienie formularz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jestracyjneg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_s39959"/>
            <p:cNvSpPr/>
            <p:nvPr/>
          </p:nvSpPr>
          <p:spPr>
            <a:xfrm>
              <a:off x="622440" y="3826440"/>
              <a:ext cx="3311280" cy="768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potkanie z Dyrektorem Inkubato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39961"/>
            <p:cNvSpPr/>
            <p:nvPr/>
          </p:nvSpPr>
          <p:spPr>
            <a:xfrm>
              <a:off x="622440" y="4977360"/>
              <a:ext cx="3311280" cy="776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cyzja Dyrekto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39963"/>
            <p:cNvSpPr/>
            <p:nvPr/>
          </p:nvSpPr>
          <p:spPr>
            <a:xfrm>
              <a:off x="4582080" y="2315160"/>
              <a:ext cx="3381840" cy="913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iszczenie jednorazowej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płaty członkowskie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_s39976"/>
            <p:cNvSpPr/>
            <p:nvPr/>
          </p:nvSpPr>
          <p:spPr>
            <a:xfrm>
              <a:off x="4582080" y="3467520"/>
              <a:ext cx="3381840" cy="935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iszczenie opłaty za usługi księgow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39978"/>
            <p:cNvSpPr/>
            <p:nvPr/>
          </p:nvSpPr>
          <p:spPr>
            <a:xfrm>
              <a:off x="5086800" y="5338440"/>
              <a:ext cx="3525120" cy="1007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dpisanie umow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1" name="_s1028"/>
            <p:cNvCxnSpPr>
              <a:stCxn id="560" idx="3"/>
              <a:endCxn id="564" idx="3"/>
            </p:cNvCxnSpPr>
            <p:nvPr/>
          </p:nvCxnSpPr>
          <p:spPr>
            <a:xfrm flipV="1">
              <a:off x="7964280" y="2770200"/>
              <a:ext cx="3600" cy="116388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57200" y="1600200"/>
            <a:ext cx="8228160" cy="4533120"/>
            <a:chOff x="457200" y="1600200"/>
            <a:chExt cx="8228160" cy="4533120"/>
          </a:xfrm>
        </p:grpSpPr>
        <p:cxnSp>
          <p:nvCxnSpPr>
            <p:cNvPr id="574" name="_s42000"/>
            <p:cNvCxnSpPr>
              <a:stCxn id="575" idx="1"/>
              <a:endCxn id="576" idx="2"/>
            </p:cNvCxnSpPr>
            <p:nvPr/>
          </p:nvCxnSpPr>
          <p:spPr>
            <a:xfrm rot="10800000">
              <a:off x="2925000" y="4896360"/>
              <a:ext cx="823320" cy="824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41998"/>
            <p:cNvCxnSpPr>
              <a:stCxn id="576" idx="0"/>
              <a:endCxn id="578" idx="2"/>
            </p:cNvCxnSpPr>
            <p:nvPr/>
          </p:nvCxnSpPr>
          <p:spPr>
            <a:xfrm flipV="1">
              <a:off x="2925720" y="3660480"/>
              <a:ext cx="5760" cy="41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41991"/>
            <p:cNvCxnSpPr>
              <a:stCxn id="578" idx="0"/>
              <a:endCxn id="580" idx="2"/>
            </p:cNvCxnSpPr>
            <p:nvPr/>
          </p:nvCxnSpPr>
          <p:spPr>
            <a:xfrm flipV="1">
              <a:off x="2925720" y="2423880"/>
              <a:ext cx="5760" cy="41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0" name="_s41992"/>
            <p:cNvSpPr/>
            <p:nvPr/>
          </p:nvSpPr>
          <p:spPr>
            <a:xfrm>
              <a:off x="457200" y="1600200"/>
              <a:ext cx="4937040" cy="82404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Zakup dome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41993"/>
            <p:cNvSpPr/>
            <p:nvPr/>
          </p:nvSpPr>
          <p:spPr>
            <a:xfrm>
              <a:off x="457200" y="2836440"/>
              <a:ext cx="4937040" cy="8240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Poszukiwani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najlepszej ofert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41997"/>
            <p:cNvSpPr/>
            <p:nvPr/>
          </p:nvSpPr>
          <p:spPr>
            <a:xfrm>
              <a:off x="457200" y="4073040"/>
              <a:ext cx="4937040" cy="8240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Wypełnienie formularza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rejestracyjnego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_s41999"/>
            <p:cNvSpPr/>
            <p:nvPr/>
          </p:nvSpPr>
          <p:spPr>
            <a:xfrm>
              <a:off x="3748320" y="5309280"/>
              <a:ext cx="4937040" cy="8240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iszczenie opłat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69080" y="1629000"/>
            <a:ext cx="8203680" cy="4534560"/>
            <a:chOff x="469080" y="1629000"/>
            <a:chExt cx="8203680" cy="4534560"/>
          </a:xfrm>
        </p:grpSpPr>
        <p:cxnSp>
          <p:nvCxnSpPr>
            <p:cNvPr id="583" name="_s43021"/>
            <p:cNvCxnSpPr>
              <a:stCxn id="584" idx="0"/>
              <a:endCxn id="585" idx="2"/>
            </p:cNvCxnSpPr>
            <p:nvPr/>
          </p:nvCxnSpPr>
          <p:spPr>
            <a:xfrm flipV="1" rot="16200000">
              <a:off x="6224760" y="4831560"/>
              <a:ext cx="288000" cy="1081800"/>
            </a:xfrm>
            <a:prstGeom prst="bentConnector3">
              <a:avLst>
                <a:gd name="adj1" fmla="val 396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6" name="_s43013"/>
            <p:cNvCxnSpPr>
              <a:stCxn id="585" idx="0"/>
              <a:endCxn id="587" idx="2"/>
            </p:cNvCxnSpPr>
            <p:nvPr/>
          </p:nvCxnSpPr>
          <p:spPr>
            <a:xfrm flipV="1" rot="16200000">
              <a:off x="5001120" y="3753360"/>
              <a:ext cx="360360" cy="1294560"/>
            </a:xfrm>
            <a:prstGeom prst="bentConnector3">
              <a:avLst>
                <a:gd name="adj1" fmla="val 317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8" name="_s43014"/>
            <p:cNvCxnSpPr>
              <a:stCxn id="587" idx="0"/>
              <a:endCxn id="589" idx="2"/>
            </p:cNvCxnSpPr>
            <p:nvPr/>
          </p:nvCxnSpPr>
          <p:spPr>
            <a:xfrm flipV="1" rot="16200000">
              <a:off x="3814560" y="2853720"/>
              <a:ext cx="362160" cy="1077840"/>
            </a:xfrm>
            <a:prstGeom prst="bentConnector3">
              <a:avLst>
                <a:gd name="adj1" fmla="val 3154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0" name="_s43015"/>
            <p:cNvCxnSpPr>
              <a:stCxn id="589" idx="0"/>
              <a:endCxn id="591" idx="2"/>
            </p:cNvCxnSpPr>
            <p:nvPr/>
          </p:nvCxnSpPr>
          <p:spPr>
            <a:xfrm flipV="1" rot="16200000">
              <a:off x="2700000" y="1807920"/>
              <a:ext cx="288720" cy="1225080"/>
            </a:xfrm>
            <a:prstGeom prst="bentConnector3">
              <a:avLst>
                <a:gd name="adj1" fmla="val 3945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1" name="_s43016"/>
            <p:cNvSpPr/>
            <p:nvPr/>
          </p:nvSpPr>
          <p:spPr>
            <a:xfrm>
              <a:off x="469080" y="1629000"/>
              <a:ext cx="3526560" cy="64728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Zakup serwerów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_s43017"/>
            <p:cNvSpPr/>
            <p:nvPr/>
          </p:nvSpPr>
          <p:spPr>
            <a:xfrm>
              <a:off x="1693800" y="2564640"/>
              <a:ext cx="3526560" cy="647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Wykonanie symulacji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określającej zapotrzebowani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_s43018"/>
            <p:cNvSpPr/>
            <p:nvPr/>
          </p:nvSpPr>
          <p:spPr>
            <a:xfrm>
              <a:off x="2771280" y="3573720"/>
              <a:ext cx="3526560" cy="647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Wysalanie zapytania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ofertowego do producentów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_s43019"/>
            <p:cNvSpPr/>
            <p:nvPr/>
          </p:nvSpPr>
          <p:spPr>
            <a:xfrm>
              <a:off x="4065120" y="4581360"/>
              <a:ext cx="3526560" cy="647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Wybór najkorzystniejszej ofert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43020"/>
            <p:cNvSpPr/>
            <p:nvPr/>
          </p:nvSpPr>
          <p:spPr>
            <a:xfrm>
              <a:off x="5146200" y="5516280"/>
              <a:ext cx="3526560" cy="647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dpisanie umowy zakup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24000" y="1341360"/>
            <a:ext cx="8456400" cy="4887360"/>
            <a:chOff x="324000" y="1341360"/>
            <a:chExt cx="8456400" cy="4887360"/>
          </a:xfrm>
        </p:grpSpPr>
        <p:cxnSp>
          <p:nvCxnSpPr>
            <p:cNvPr id="594" name="_s40987"/>
            <p:cNvCxnSpPr>
              <a:stCxn id="595" idx="1"/>
              <a:endCxn id="596" idx="3"/>
            </p:cNvCxnSpPr>
            <p:nvPr/>
          </p:nvCxnSpPr>
          <p:spPr>
            <a:xfrm flipH="1" flipV="1" rot="10800000">
              <a:off x="4796280" y="2378160"/>
              <a:ext cx="3755880" cy="3387600"/>
            </a:xfrm>
            <a:prstGeom prst="bentConnector5">
              <a:avLst>
                <a:gd name="adj1" fmla="val -3038"/>
                <a:gd name="adj2" fmla="val 31820"/>
                <a:gd name="adj3" fmla="val 1060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7" name="_s40985"/>
            <p:cNvCxnSpPr>
              <a:stCxn id="596" idx="1"/>
              <a:endCxn id="598" idx="3"/>
            </p:cNvCxnSpPr>
            <p:nvPr/>
          </p:nvCxnSpPr>
          <p:spPr>
            <a:xfrm rot="10800000">
              <a:off x="4473720" y="5241960"/>
              <a:ext cx="323640" cy="52344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9" name="_s40983"/>
            <p:cNvCxnSpPr>
              <a:stCxn id="600" idx="1"/>
              <a:endCxn id="598" idx="3"/>
            </p:cNvCxnSpPr>
            <p:nvPr/>
          </p:nvCxnSpPr>
          <p:spPr>
            <a:xfrm flipV="1" rot="10800000">
              <a:off x="4473720" y="4462200"/>
              <a:ext cx="323640" cy="779040"/>
            </a:xfrm>
            <a:prstGeom prst="bentConnector3">
              <a:avLst>
                <a:gd name="adj1" fmla="val 354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1" name="_s40977"/>
            <p:cNvCxnSpPr>
              <a:stCxn id="598" idx="0"/>
              <a:endCxn id="602" idx="2"/>
            </p:cNvCxnSpPr>
            <p:nvPr/>
          </p:nvCxnSpPr>
          <p:spPr>
            <a:xfrm flipV="1" rot="16200000">
              <a:off x="2389680" y="4529880"/>
              <a:ext cx="340200" cy="196920"/>
            </a:xfrm>
            <a:prstGeom prst="bentConnector3">
              <a:avLst>
                <a:gd name="adj1" fmla="val 335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40975"/>
            <p:cNvCxnSpPr>
              <a:stCxn id="602" idx="0"/>
              <a:endCxn id="604" idx="2"/>
            </p:cNvCxnSpPr>
            <p:nvPr/>
          </p:nvCxnSpPr>
          <p:spPr>
            <a:xfrm flipV="1" rot="16200000">
              <a:off x="2225520" y="3408480"/>
              <a:ext cx="329760" cy="142920"/>
            </a:xfrm>
            <a:prstGeom prst="bentConnector3">
              <a:avLst>
                <a:gd name="adj1" fmla="val 3475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5" name="_s40970"/>
            <p:cNvCxnSpPr>
              <a:stCxn id="604" idx="0"/>
              <a:endCxn id="606" idx="2"/>
            </p:cNvCxnSpPr>
            <p:nvPr/>
          </p:nvCxnSpPr>
          <p:spPr>
            <a:xfrm flipV="1" rot="16200000">
              <a:off x="2082600" y="2255400"/>
              <a:ext cx="317520" cy="155880"/>
            </a:xfrm>
            <a:prstGeom prst="bentConnector3">
              <a:avLst>
                <a:gd name="adj1" fmla="val 359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6" name="_s40966"/>
            <p:cNvSpPr/>
            <p:nvPr/>
          </p:nvSpPr>
          <p:spPr>
            <a:xfrm>
              <a:off x="324000" y="1341360"/>
              <a:ext cx="3681000" cy="83376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ajem lokal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40967"/>
            <p:cNvSpPr/>
            <p:nvPr/>
          </p:nvSpPr>
          <p:spPr>
            <a:xfrm>
              <a:off x="478440" y="2492280"/>
              <a:ext cx="3682080" cy="823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ontakt z agencjami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ieruchomośc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40974"/>
            <p:cNvSpPr/>
            <p:nvPr/>
          </p:nvSpPr>
          <p:spPr>
            <a:xfrm>
              <a:off x="621720" y="3645000"/>
              <a:ext cx="3677400" cy="813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zejrzeni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ktualnych ofe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_s40976"/>
            <p:cNvSpPr/>
            <p:nvPr/>
          </p:nvSpPr>
          <p:spPr>
            <a:xfrm>
              <a:off x="837720" y="4798080"/>
              <a:ext cx="3636720" cy="8870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odpisanie umowy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jm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40982"/>
            <p:cNvSpPr/>
            <p:nvPr/>
          </p:nvSpPr>
          <p:spPr>
            <a:xfrm>
              <a:off x="4797360" y="4005360"/>
              <a:ext cx="3742200" cy="91404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mont części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iurowo-administracyjnej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_s40984"/>
            <p:cNvSpPr/>
            <p:nvPr/>
          </p:nvSpPr>
          <p:spPr>
            <a:xfrm>
              <a:off x="4797360" y="5300640"/>
              <a:ext cx="3755160" cy="92808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Budowa serwerown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40986"/>
            <p:cNvSpPr/>
            <p:nvPr/>
          </p:nvSpPr>
          <p:spPr>
            <a:xfrm>
              <a:off x="4797360" y="1915560"/>
              <a:ext cx="3755160" cy="926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dbiór PPO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 BHP lokal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8532720" y="450864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57200" y="1600200"/>
            <a:ext cx="8229600" cy="4533840"/>
            <a:chOff x="457200" y="1600200"/>
            <a:chExt cx="8229600" cy="4533840"/>
          </a:xfrm>
        </p:grpSpPr>
        <p:cxnSp>
          <p:nvCxnSpPr>
            <p:cNvPr id="610" name="_s46116"/>
            <p:cNvCxnSpPr>
              <a:stCxn id="611" idx="0"/>
              <a:endCxn id="612" idx="2"/>
            </p:cNvCxnSpPr>
            <p:nvPr/>
          </p:nvCxnSpPr>
          <p:spPr>
            <a:xfrm flipV="1">
              <a:off x="6218280" y="4093920"/>
              <a:ext cx="2160" cy="22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3" name="_s46114"/>
            <p:cNvCxnSpPr>
              <a:stCxn id="614" idx="1"/>
              <a:endCxn id="615" idx="2"/>
            </p:cNvCxnSpPr>
            <p:nvPr/>
          </p:nvCxnSpPr>
          <p:spPr>
            <a:xfrm rot="10800000">
              <a:off x="2926800" y="2053440"/>
              <a:ext cx="821160" cy="385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6" name="_s46112"/>
            <p:cNvCxnSpPr>
              <a:stCxn id="617" idx="1"/>
              <a:endCxn id="615" idx="2"/>
            </p:cNvCxnSpPr>
            <p:nvPr/>
          </p:nvCxnSpPr>
          <p:spPr>
            <a:xfrm rot="10800000">
              <a:off x="2926800" y="2053440"/>
              <a:ext cx="821160" cy="317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8" name="_s46110"/>
            <p:cNvCxnSpPr>
              <a:stCxn id="612" idx="1"/>
              <a:endCxn id="615" idx="2"/>
            </p:cNvCxnSpPr>
            <p:nvPr/>
          </p:nvCxnSpPr>
          <p:spPr>
            <a:xfrm rot="10800000">
              <a:off x="2926800" y="2053440"/>
              <a:ext cx="821160" cy="181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46108"/>
            <p:cNvCxnSpPr>
              <a:stCxn id="620" idx="0"/>
              <a:endCxn id="621" idx="2"/>
            </p:cNvCxnSpPr>
            <p:nvPr/>
          </p:nvCxnSpPr>
          <p:spPr>
            <a:xfrm flipV="1">
              <a:off x="6218280" y="2733480"/>
              <a:ext cx="2160" cy="227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2" name="_s46103"/>
            <p:cNvCxnSpPr>
              <a:stCxn id="621" idx="1"/>
              <a:endCxn id="615" idx="2"/>
            </p:cNvCxnSpPr>
            <p:nvPr/>
          </p:nvCxnSpPr>
          <p:spPr>
            <a:xfrm rot="10800000">
              <a:off x="2926800" y="2053440"/>
              <a:ext cx="821160" cy="45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5" name="_s46099"/>
            <p:cNvSpPr/>
            <p:nvPr/>
          </p:nvSpPr>
          <p:spPr>
            <a:xfrm>
              <a:off x="457200" y="1600200"/>
              <a:ext cx="4938840" cy="45396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Remont części biurowo-administracyjnej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_s46100"/>
            <p:cNvSpPr/>
            <p:nvPr/>
          </p:nvSpPr>
          <p:spPr>
            <a:xfrm>
              <a:off x="3747960" y="2281320"/>
              <a:ext cx="4938840" cy="452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stawienie ścianek działowy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46107"/>
            <p:cNvSpPr/>
            <p:nvPr/>
          </p:nvSpPr>
          <p:spPr>
            <a:xfrm>
              <a:off x="3747960" y="2960640"/>
              <a:ext cx="4938840" cy="453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lowani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46109"/>
            <p:cNvSpPr/>
            <p:nvPr/>
          </p:nvSpPr>
          <p:spPr>
            <a:xfrm>
              <a:off x="3747960" y="3641760"/>
              <a:ext cx="4938840" cy="452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Zakup meb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46111"/>
            <p:cNvSpPr/>
            <p:nvPr/>
          </p:nvSpPr>
          <p:spPr>
            <a:xfrm>
              <a:off x="3747960" y="5000760"/>
              <a:ext cx="4938840" cy="452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Zakup sprzętu komputerowe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46113"/>
            <p:cNvSpPr/>
            <p:nvPr/>
          </p:nvSpPr>
          <p:spPr>
            <a:xfrm>
              <a:off x="3747960" y="5680080"/>
              <a:ext cx="4938840" cy="453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zygotowanie okablow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46115"/>
            <p:cNvSpPr/>
            <p:nvPr/>
          </p:nvSpPr>
          <p:spPr>
            <a:xfrm>
              <a:off x="3747960" y="4321080"/>
              <a:ext cx="4938840" cy="452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lacja sprzętu komputerowego i mebl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227640" y="4797360"/>
            <a:ext cx="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57200" y="1600200"/>
            <a:ext cx="8228160" cy="4533480"/>
            <a:chOff x="457200" y="1600200"/>
            <a:chExt cx="8228160" cy="4533480"/>
          </a:xfrm>
        </p:grpSpPr>
        <p:cxnSp>
          <p:nvCxnSpPr>
            <p:cNvPr id="626" name="_s47136"/>
            <p:cNvCxnSpPr>
              <a:stCxn id="627" idx="1"/>
              <a:endCxn id="628" idx="2"/>
            </p:cNvCxnSpPr>
            <p:nvPr/>
          </p:nvCxnSpPr>
          <p:spPr>
            <a:xfrm rot="10800000">
              <a:off x="2925000" y="2132640"/>
              <a:ext cx="823320" cy="3734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47134"/>
            <p:cNvCxnSpPr>
              <a:stCxn id="630" idx="1"/>
              <a:endCxn id="628" idx="2"/>
            </p:cNvCxnSpPr>
            <p:nvPr/>
          </p:nvCxnSpPr>
          <p:spPr>
            <a:xfrm rot="10800000">
              <a:off x="2925000" y="2132640"/>
              <a:ext cx="823320" cy="2934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1" name="_s47131"/>
            <p:cNvCxnSpPr>
              <a:stCxn id="632" idx="1"/>
              <a:endCxn id="628" idx="2"/>
            </p:cNvCxnSpPr>
            <p:nvPr/>
          </p:nvCxnSpPr>
          <p:spPr>
            <a:xfrm rot="10800000">
              <a:off x="2925000" y="2132640"/>
              <a:ext cx="823320" cy="213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3" name="_s47130"/>
            <p:cNvCxnSpPr>
              <a:stCxn id="634" idx="1"/>
              <a:endCxn id="628" idx="2"/>
            </p:cNvCxnSpPr>
            <p:nvPr/>
          </p:nvCxnSpPr>
          <p:spPr>
            <a:xfrm rot="10800000">
              <a:off x="2925000" y="2132640"/>
              <a:ext cx="823320" cy="133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5" name="_s47129"/>
            <p:cNvCxnSpPr>
              <a:stCxn id="636" idx="1"/>
              <a:endCxn id="628" idx="2"/>
            </p:cNvCxnSpPr>
            <p:nvPr/>
          </p:nvCxnSpPr>
          <p:spPr>
            <a:xfrm rot="10800000">
              <a:off x="2925000" y="2132640"/>
              <a:ext cx="823320" cy="533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8" name="_s47125"/>
            <p:cNvSpPr/>
            <p:nvPr/>
          </p:nvSpPr>
          <p:spPr>
            <a:xfrm>
              <a:off x="457200" y="160020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Budowa serwerown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47126"/>
            <p:cNvSpPr/>
            <p:nvPr/>
          </p:nvSpPr>
          <p:spPr>
            <a:xfrm>
              <a:off x="3748320" y="240012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lacja systemu chłodzące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47127"/>
            <p:cNvSpPr/>
            <p:nvPr/>
          </p:nvSpPr>
          <p:spPr>
            <a:xfrm>
              <a:off x="3748320" y="320004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lacja systemu gaśnicze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_s47128"/>
            <p:cNvSpPr/>
            <p:nvPr/>
          </p:nvSpPr>
          <p:spPr>
            <a:xfrm>
              <a:off x="3748320" y="400032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lacja systemu zasilania awaryjne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47133"/>
            <p:cNvSpPr/>
            <p:nvPr/>
          </p:nvSpPr>
          <p:spPr>
            <a:xfrm>
              <a:off x="3748320" y="480024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nstalacja okablowania strukturalneg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na potrzeby serwerown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_s47135"/>
            <p:cNvSpPr/>
            <p:nvPr/>
          </p:nvSpPr>
          <p:spPr>
            <a:xfrm>
              <a:off x="3748320" y="5600520"/>
              <a:ext cx="4937040" cy="5331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nstalacja szaf rackowych na serw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" y="1600200"/>
            <a:ext cx="8506800" cy="4686120"/>
            <a:chOff x="457200" y="1600200"/>
            <a:chExt cx="8506800" cy="4686120"/>
          </a:xfrm>
        </p:grpSpPr>
        <p:cxnSp>
          <p:nvCxnSpPr>
            <p:cNvPr id="639" name="_s49201"/>
            <p:cNvCxnSpPr/>
            <p:nvPr/>
          </p:nvCxnSpPr>
          <p:spPr>
            <a:xfrm flipH="1" flipV="1" rot="5400000">
              <a:off x="4672440" y="4334040"/>
              <a:ext cx="860040" cy="1638720"/>
            </a:xfrm>
            <a:prstGeom prst="bentConnector3">
              <a:avLst>
                <a:gd name="adj1" fmla="val 13274"/>
              </a:avLst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40" name="_s49199"/>
            <p:cNvCxnSpPr>
              <a:stCxn id="641" idx="1"/>
              <a:endCxn id="642" idx="3"/>
            </p:cNvCxnSpPr>
            <p:nvPr/>
          </p:nvCxnSpPr>
          <p:spPr>
            <a:xfrm rot="10800000">
              <a:off x="5793480" y="5937480"/>
              <a:ext cx="291960" cy="2160"/>
            </a:xfrm>
            <a:prstGeom prst="bentConnector2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43" name="_s49197"/>
            <p:cNvCxnSpPr>
              <a:stCxn id="644" idx="3"/>
              <a:endCxn id="645" idx="3"/>
            </p:cNvCxnSpPr>
            <p:nvPr/>
          </p:nvCxnSpPr>
          <p:spPr>
            <a:xfrm flipH="1">
              <a:off x="7556040" y="3542760"/>
              <a:ext cx="32760" cy="1077840"/>
            </a:xfrm>
            <a:prstGeom prst="bentConnector3">
              <a:avLst>
                <a:gd name="adj1" fmla="val -3633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6" name="_s49195"/>
            <p:cNvCxnSpPr>
              <a:stCxn id="644" idx="1"/>
              <a:endCxn id="647" idx="3"/>
            </p:cNvCxnSpPr>
            <p:nvPr/>
          </p:nvCxnSpPr>
          <p:spPr>
            <a:xfrm flipV="1" rot="10800000">
              <a:off x="4056480" y="3541680"/>
              <a:ext cx="515520" cy="493560"/>
            </a:xfrm>
            <a:prstGeom prst="bentConnector3">
              <a:avLst>
                <a:gd name="adj1" fmla="val 5317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8" name="_s49187"/>
            <p:cNvCxnSpPr>
              <a:stCxn id="647" idx="1"/>
            </p:cNvCxnSpPr>
            <p:nvPr/>
          </p:nvCxnSpPr>
          <p:spPr>
            <a:xfrm rot="10800000">
              <a:off x="899280" y="2275920"/>
              <a:ext cx="141840" cy="1759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49186"/>
            <p:cNvCxnSpPr>
              <a:stCxn id="650" idx="1"/>
            </p:cNvCxnSpPr>
            <p:nvPr/>
          </p:nvCxnSpPr>
          <p:spPr>
            <a:xfrm rot="10800000">
              <a:off x="899280" y="2275920"/>
              <a:ext cx="141840" cy="81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1" name="_s49182"/>
            <p:cNvSpPr/>
            <p:nvPr/>
          </p:nvSpPr>
          <p:spPr>
            <a:xfrm>
              <a:off x="457200" y="1600200"/>
              <a:ext cx="3035880" cy="67644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Zatrudnieni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acownikó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49183"/>
            <p:cNvSpPr/>
            <p:nvPr/>
          </p:nvSpPr>
          <p:spPr>
            <a:xfrm>
              <a:off x="1041120" y="2781360"/>
              <a:ext cx="3015720" cy="6199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danie ogłoszeni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serwisach internetowy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49184"/>
            <p:cNvSpPr/>
            <p:nvPr/>
          </p:nvSpPr>
          <p:spPr>
            <a:xfrm>
              <a:off x="1041120" y="3715200"/>
              <a:ext cx="3015720" cy="639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danie ogłoszenia dl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udentów ostatnich lat studió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49194"/>
            <p:cNvSpPr/>
            <p:nvPr/>
          </p:nvSpPr>
          <p:spPr>
            <a:xfrm>
              <a:off x="4572000" y="3212640"/>
              <a:ext cx="3016440" cy="660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zeprowadzenie rozmów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kwalifikacyjny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49196"/>
            <p:cNvSpPr/>
            <p:nvPr/>
          </p:nvSpPr>
          <p:spPr>
            <a:xfrm>
              <a:off x="4572000" y="4293000"/>
              <a:ext cx="2983680" cy="654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dpisanie umów o prac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49198"/>
            <p:cNvSpPr/>
            <p:nvPr/>
          </p:nvSpPr>
          <p:spPr>
            <a:xfrm>
              <a:off x="6085440" y="5589720"/>
              <a:ext cx="2878560" cy="696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stalacja systemu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peracyjne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49200"/>
            <p:cNvSpPr/>
            <p:nvPr/>
          </p:nvSpPr>
          <p:spPr>
            <a:xfrm>
              <a:off x="2770200" y="5589720"/>
              <a:ext cx="3022920" cy="696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Montaż serwerów w racka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52" name="_s1031"/>
            <p:cNvCxnSpPr>
              <a:stCxn id="644" idx="1"/>
              <a:endCxn id="650" idx="3"/>
            </p:cNvCxnSpPr>
            <p:nvPr/>
          </p:nvCxnSpPr>
          <p:spPr>
            <a:xfrm rot="10800000">
              <a:off x="4056480" y="3091320"/>
              <a:ext cx="515520" cy="451440"/>
            </a:xfrm>
            <a:prstGeom prst="bentConnector3">
              <a:avLst>
                <a:gd name="adj1" fmla="val 49965"/>
              </a:avLst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79280" y="1447920"/>
            <a:ext cx="8784000" cy="4838400"/>
            <a:chOff x="179280" y="1447920"/>
            <a:chExt cx="8784000" cy="4838400"/>
          </a:xfrm>
        </p:grpSpPr>
        <p:cxnSp>
          <p:nvCxnSpPr>
            <p:cNvPr id="655" name="_s51217"/>
            <p:cNvCxnSpPr>
              <a:stCxn id="656" idx="1"/>
              <a:endCxn id="657" idx="2"/>
            </p:cNvCxnSpPr>
            <p:nvPr/>
          </p:nvCxnSpPr>
          <p:spPr>
            <a:xfrm rot="10800000">
              <a:off x="2813760" y="1931040"/>
              <a:ext cx="879120" cy="4113360"/>
            </a:xfrm>
            <a:prstGeom prst="bentConnector2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58" name="_s51205"/>
            <p:cNvCxnSpPr>
              <a:stCxn id="659" idx="1"/>
              <a:endCxn id="657" idx="2"/>
            </p:cNvCxnSpPr>
            <p:nvPr/>
          </p:nvCxnSpPr>
          <p:spPr>
            <a:xfrm rot="10800000">
              <a:off x="2813760" y="1931040"/>
              <a:ext cx="879120" cy="3389040"/>
            </a:xfrm>
            <a:prstGeom prst="bentConnector2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660" name="_s51206"/>
            <p:cNvCxnSpPr>
              <a:stCxn id="661" idx="1"/>
              <a:endCxn id="657" idx="2"/>
            </p:cNvCxnSpPr>
            <p:nvPr/>
          </p:nvCxnSpPr>
          <p:spPr>
            <a:xfrm rot="10800000">
              <a:off x="2813760" y="1931040"/>
              <a:ext cx="879120" cy="2663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2" name="_s51207"/>
            <p:cNvCxnSpPr>
              <a:stCxn id="663" idx="1"/>
              <a:endCxn id="657" idx="2"/>
            </p:cNvCxnSpPr>
            <p:nvPr/>
          </p:nvCxnSpPr>
          <p:spPr>
            <a:xfrm rot="10800000">
              <a:off x="2813760" y="1931040"/>
              <a:ext cx="879120" cy="1936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4" name="_s51208"/>
            <p:cNvCxnSpPr>
              <a:stCxn id="665" idx="1"/>
              <a:endCxn id="657" idx="2"/>
            </p:cNvCxnSpPr>
            <p:nvPr/>
          </p:nvCxnSpPr>
          <p:spPr>
            <a:xfrm rot="10800000">
              <a:off x="2813760" y="1931040"/>
              <a:ext cx="879120" cy="121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6" name="_s51209"/>
            <p:cNvCxnSpPr>
              <a:stCxn id="667" idx="1"/>
              <a:endCxn id="657" idx="2"/>
            </p:cNvCxnSpPr>
            <p:nvPr/>
          </p:nvCxnSpPr>
          <p:spPr>
            <a:xfrm rot="10800000">
              <a:off x="2813760" y="1931040"/>
              <a:ext cx="879120" cy="48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7" name="_s51210"/>
            <p:cNvSpPr/>
            <p:nvPr/>
          </p:nvSpPr>
          <p:spPr>
            <a:xfrm>
              <a:off x="179280" y="144792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Kampania reklamow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_s51211"/>
            <p:cNvSpPr/>
            <p:nvPr/>
          </p:nvSpPr>
          <p:spPr>
            <a:xfrm>
              <a:off x="3692880" y="217368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worzenie własnej strony internetowej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_s51212"/>
            <p:cNvSpPr/>
            <p:nvPr/>
          </p:nvSpPr>
          <p:spPr>
            <a:xfrm>
              <a:off x="3692880" y="289944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Stworzenie log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_s51213"/>
            <p:cNvSpPr/>
            <p:nvPr/>
          </p:nvSpPr>
          <p:spPr>
            <a:xfrm>
              <a:off x="3692880" y="362520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katy reklamow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_s51214"/>
            <p:cNvSpPr/>
            <p:nvPr/>
          </p:nvSpPr>
          <p:spPr>
            <a:xfrm>
              <a:off x="3692880" y="435096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lotki na uczelniach techniczny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_s51215"/>
            <p:cNvSpPr/>
            <p:nvPr/>
          </p:nvSpPr>
          <p:spPr>
            <a:xfrm>
              <a:off x="3692880" y="507672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Kontrakt reklamowy z Doda i Pudzianowski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_s51216"/>
            <p:cNvSpPr/>
            <p:nvPr/>
          </p:nvSpPr>
          <p:spPr>
            <a:xfrm>
              <a:off x="3692880" y="5802480"/>
              <a:ext cx="5270400" cy="483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klama w telewizj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odsumowan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056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ie wiadomo, nie wiadomo wca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 w życiu ciebie cze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ty możesz wyrosną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 wielkiego Człowieka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wa Szelburg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el projektu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elem projektu jest założenie własnej firmy hostingowej zajmującej się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ejestrowaniem dom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worzeniem stron ww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sługami pocztowo-bazodanowy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zierżawieniem przestrzeni serwerowej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akres projektu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głoszenie się do programu Inkubator Przedsiębiorczości w WI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łożenie działalności gospodarczej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ourcing księgowoś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dobycie kapitału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up domeny i stworzenie własnej strony firmowej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em lokalu spełniającego wymogi techniczno-lokalizacyjn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up serwerów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trudnienie pracowników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pania reklamow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yniki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ynikiem (sukcesem) projektu będzie stworzenie prężnie rozwijającej się firmy informatycznej, sprzedającej wysokiej klasy usługi informatycz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będzie gotowa na obsługę klientów z racji stworzonych aplikacji bazodanowych i zaplecza serweroweg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szacowanie kosztu i terminu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848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as realizacji projektu został oszacowany 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iesię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84360" y="2852640"/>
          <a:ext cx="7524720" cy="3346560"/>
        </p:xfrm>
        <a:graphic>
          <a:graphicData uri="http://schemas.openxmlformats.org/drawingml/2006/table">
            <a:tbl>
              <a:tblPr/>
              <a:tblGrid>
                <a:gridCol w="4063680"/>
                <a:gridCol w="346104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6699"/>
                          </a:solidFill>
                          <a:latin typeface="Arial"/>
                          <a:ea typeface="Arial"/>
                        </a:rPr>
                        <a:t>KATEGORIA KOSZT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6699"/>
                          </a:solidFill>
                          <a:latin typeface="Arial"/>
                          <a:ea typeface="Arial"/>
                        </a:rPr>
                        <a:t>KOSZ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ycena inwestycji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szty najmu ( 6 miesiąc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szta miesięczne (umowy serwisowe,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nsj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rzęt komputerowy, licenc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ampania reklamow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0" y="473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ryteria sukcesu projektu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żet i czas projektu nie zostanie przekroczony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 najmniej po 4 miesiącach działania firma zacznie przynosić zysk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ony projektu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ponsor (3 osoby), - późniejszy zarzą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ierownik projektu (1 z udziałowców, osoba która miała większość) – późniejszy prezes zarzą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cownik 1 – odpowiedzialny za sprzęt i wykonanie serwerown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cownik 2 – odpowiedzialny na stworzenie serwisu web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zostali pracownicy i podwykonaw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Hierarchia projekt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94880" y="1413000"/>
            <a:ext cx="7346520" cy="4897080"/>
            <a:chOff x="794880" y="1413000"/>
            <a:chExt cx="7346520" cy="4897080"/>
          </a:xfrm>
        </p:grpSpPr>
        <p:sp>
          <p:nvSpPr>
            <p:cNvPr id="532" name=""/>
            <p:cNvSpPr/>
            <p:nvPr/>
          </p:nvSpPr>
          <p:spPr>
            <a:xfrm>
              <a:off x="794880" y="1413000"/>
              <a:ext cx="7346520" cy="31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43600" y="1739160"/>
              <a:ext cx="2448720" cy="6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47920" y="3371760"/>
              <a:ext cx="1632600" cy="4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LEADER 1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3600" y="2718720"/>
              <a:ext cx="2448720" cy="6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KIEROWNIK PROJEKT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55760" y="3371760"/>
              <a:ext cx="1632600" cy="4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LEADER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84480" y="4514760"/>
              <a:ext cx="179568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</a:rPr>
                <a:t>WYKONANIE SERWEROWN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55760" y="4677840"/>
              <a:ext cx="2285640" cy="9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"/>
                </a:rPr>
                <a:t>STRONA FIRMOWA + APLIKACJE BAZODANOW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43600" y="5330880"/>
              <a:ext cx="2285640" cy="9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POZOSTALI PRACOWNICY I PODWYKONAW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080520" y="3208680"/>
              <a:ext cx="489600" cy="32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66160" y="3208680"/>
              <a:ext cx="489600" cy="32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64040" y="3861720"/>
              <a:ext cx="0" cy="65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80520" y="3861720"/>
              <a:ext cx="816120" cy="146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875840" y="3861720"/>
              <a:ext cx="979560" cy="1469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98760" y="3861720"/>
              <a:ext cx="0" cy="65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86600" y="3208680"/>
              <a:ext cx="0" cy="21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zy w projekci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57200" y="1600200"/>
            <a:ext cx="8228520" cy="4533120"/>
            <a:chOff x="457200" y="1600200"/>
            <a:chExt cx="8228520" cy="4533120"/>
          </a:xfrm>
        </p:grpSpPr>
        <p:cxnSp>
          <p:nvCxnSpPr>
            <p:cNvPr id="549" name="_s37903"/>
            <p:cNvCxnSpPr>
              <a:stCxn id="550" idx="0"/>
              <a:endCxn id="551" idx="2"/>
            </p:cNvCxnSpPr>
            <p:nvPr/>
          </p:nvCxnSpPr>
          <p:spPr>
            <a:xfrm flipV="1">
              <a:off x="6786720" y="4433040"/>
              <a:ext cx="4680" cy="56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37899"/>
            <p:cNvCxnSpPr>
              <a:stCxn id="551" idx="0"/>
              <a:endCxn id="553" idx="2"/>
            </p:cNvCxnSpPr>
            <p:nvPr/>
          </p:nvCxnSpPr>
          <p:spPr>
            <a:xfrm flipV="1" rot="16200000">
              <a:off x="5394960" y="1908360"/>
              <a:ext cx="567360" cy="2216160"/>
            </a:xfrm>
            <a:prstGeom prst="bentConnector3">
              <a:avLst>
                <a:gd name="adj1" fmla="val 201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37898"/>
            <p:cNvCxnSpPr>
              <a:stCxn id="555" idx="0"/>
              <a:endCxn id="553" idx="2"/>
            </p:cNvCxnSpPr>
            <p:nvPr/>
          </p:nvCxnSpPr>
          <p:spPr>
            <a:xfrm flipH="1" flipV="1" rot="5400000">
              <a:off x="3179520" y="1909080"/>
              <a:ext cx="567360" cy="2215440"/>
            </a:xfrm>
            <a:prstGeom prst="bentConnector3">
              <a:avLst>
                <a:gd name="adj1" fmla="val 201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53" name="_s37894"/>
            <p:cNvSpPr/>
            <p:nvPr/>
          </p:nvSpPr>
          <p:spPr>
            <a:xfrm>
              <a:off x="2671920" y="1600200"/>
              <a:ext cx="3797640" cy="1133280"/>
            </a:xfrm>
            <a:prstGeom prst="roundRect">
              <a:avLst>
                <a:gd name="adj" fmla="val 16667"/>
              </a:avLst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Zdobyci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kapitału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37895"/>
            <p:cNvSpPr/>
            <p:nvPr/>
          </p:nvSpPr>
          <p:spPr>
            <a:xfrm>
              <a:off x="457200" y="3300120"/>
              <a:ext cx="3797640" cy="1133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Kapitał własny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37896"/>
            <p:cNvSpPr/>
            <p:nvPr/>
          </p:nvSpPr>
          <p:spPr>
            <a:xfrm>
              <a:off x="4888080" y="3300120"/>
              <a:ext cx="3797640" cy="1133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Uzyskanie korzystnej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pożyczki bankowe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37902"/>
            <p:cNvSpPr/>
            <p:nvPr/>
          </p:nvSpPr>
          <p:spPr>
            <a:xfrm>
              <a:off x="4888080" y="5000040"/>
              <a:ext cx="3797640" cy="11332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Dofinansowanie z UE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6:34Z</dcterms:created>
  <dc:creator>Roksela</dc:creator>
  <dc:description/>
  <dc:language>en-US</dc:language>
  <cp:lastModifiedBy>Roksela</cp:lastModifiedBy>
  <dcterms:modified xsi:type="dcterms:W3CDTF">2008-05-30T17:15:02Z</dcterms:modified>
  <cp:revision>3</cp:revision>
  <dc:subject/>
  <dc:title>FIRMA HOSTINGOWA</dc:title>
</cp:coreProperties>
</file>