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7632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5280" y="4658760"/>
            <a:ext cx="7632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06320" y="270828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95280" y="465876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306320" y="465876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2457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75760" y="2708280"/>
            <a:ext cx="2457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556600" y="2708280"/>
            <a:ext cx="2457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95280" y="4658760"/>
            <a:ext cx="2457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975760" y="4658760"/>
            <a:ext cx="2457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556600" y="4658760"/>
            <a:ext cx="2457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95280" y="2708280"/>
            <a:ext cx="76327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7632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3724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306320" y="2708280"/>
            <a:ext cx="3724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94920" y="162828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306320" y="2708280"/>
            <a:ext cx="3724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95280" y="465876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3724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06320" y="270828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306320" y="465876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06320" y="270828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5280" y="4658760"/>
            <a:ext cx="7632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2708280"/>
            <a:ext cx="7632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627280" y="333360"/>
            <a:ext cx="540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Irena Woroniecka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MAKROEKONOMIA II   wykład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Wydział Informatycznych Technik Zarządzania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Wyższa Szkoła Informatyki Stosowanej i Zarządzania WIT</a:t>
            </a:r>
            <a:br>
              <a:rPr sz="1400"/>
            </a:b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1584360" cy="108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ykład 3</a:t>
            </a:r>
            <a:br>
              <a:rPr sz="2800"/>
            </a:br>
            <a:br>
              <a:rPr sz="1800"/>
            </a:b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RÓWNOWAGA NA RYNKU PIENIĄDZ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ównowaga na rynku pieniądz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1452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1628640"/>
            <a:ext cx="921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05320" y="44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195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533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38280" y="3048120"/>
            <a:ext cx="5639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2286000"/>
            <a:ext cx="2971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cc"/>
                </a:solidFill>
                <a:latin typeface="Times New Roman"/>
              </a:rPr>
              <a:t>Krzywa podaży pieniądza </a:t>
            </a:r>
            <a:r>
              <a:rPr b="1" i="1" lang="pl-PL" sz="1400" spc="-1" strike="noStrike">
                <a:solidFill>
                  <a:srgbClr val="0000cc"/>
                </a:solidFill>
                <a:latin typeface="Times New Roman"/>
              </a:rPr>
              <a:t>MS </a:t>
            </a:r>
            <a:r>
              <a:rPr b="1" lang="pl-PL" sz="1400" spc="-1" strike="noStrike">
                <a:solidFill>
                  <a:srgbClr val="0000cc"/>
                </a:solidFill>
                <a:latin typeface="Times New Roman"/>
              </a:rPr>
              <a:t>jest pionowa – przy danym poziomie cen bank centralny kontroluje zarówno nominalną jak i realną podaż pieniądz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Times New Roman"/>
              </a:rPr>
              <a:t>Krzywa popytu na pieniądz </a:t>
            </a:r>
            <a:r>
              <a:rPr b="1" i="1" lang="pl-PL" sz="1400" spc="-1" strike="noStrike">
                <a:solidFill>
                  <a:srgbClr val="ff0000"/>
                </a:solidFill>
                <a:latin typeface="Times New Roman"/>
              </a:rPr>
              <a:t>MD </a:t>
            </a:r>
            <a:r>
              <a:rPr b="1" lang="pl-PL" sz="1400" spc="-1" strike="noStrike">
                <a:solidFill>
                  <a:srgbClr val="ff0000"/>
                </a:solidFill>
                <a:latin typeface="Times New Roman"/>
              </a:rPr>
              <a:t>jest malejącą funkcją stopy procentowej – im wyższa stopa procentowa, tym wyższy koszt alternatywny utrzymywania pieniądza i tym niższy nań popy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cc"/>
                </a:solidFill>
                <a:latin typeface="Times New Roman"/>
              </a:rPr>
              <a:t>Przy stopie procentowej </a:t>
            </a:r>
            <a:r>
              <a:rPr b="1" i="1" lang="pl-PL" sz="1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pl-PL" sz="1400" spc="-1" strike="noStrike" baseline="-25000">
                <a:solidFill>
                  <a:srgbClr val="0000cc"/>
                </a:solidFill>
                <a:latin typeface="Times New Roman"/>
              </a:rPr>
              <a:t>E</a:t>
            </a:r>
            <a:r>
              <a:rPr b="1" i="1" lang="pl-PL" sz="1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pl-PL" sz="1400" spc="-1" strike="noStrike">
                <a:solidFill>
                  <a:srgbClr val="0000cc"/>
                </a:solidFill>
                <a:latin typeface="Times New Roman"/>
              </a:rPr>
              <a:t>występuje równowaga na rynku pieniądza. Przy niższej stopie procentowej występuje nadwyżka popytu na pieniądz, przy wyższej - nadwyżka podaży pieniądz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352680" y="2286000"/>
          <a:ext cx="5545080" cy="428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286000"/>
                    <a:ext cx="5545080" cy="4289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676520"/>
            <a:ext cx="8153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ównowaga na rynkach finansowych: pieniądza i obligacj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40000" y="1628640"/>
            <a:ext cx="921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44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195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533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3048120"/>
            <a:ext cx="5639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2286000"/>
            <a:ext cx="297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Majątek </a:t>
            </a:r>
            <a:r>
              <a:rPr b="1" i="1" lang="en-US" sz="1400" spc="-1" strike="noStrike">
                <a:solidFill>
                  <a:srgbClr val="0000cc"/>
                </a:solidFill>
                <a:latin typeface="Times New Roman"/>
              </a:rPr>
              <a:t>W 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ludzie dzielą między pieniądz </a:t>
            </a:r>
            <a:r>
              <a:rPr b="1" i="1" lang="en-US" sz="1400" spc="-1" strike="noStrike">
                <a:solidFill>
                  <a:srgbClr val="0000cc"/>
                </a:solidFill>
                <a:latin typeface="Times New Roman"/>
              </a:rPr>
              <a:t>MD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 i obligacje </a:t>
            </a:r>
            <a:r>
              <a:rPr b="1" i="1" lang="en-US" sz="1400" spc="-1" strike="noStrike">
                <a:solidFill>
                  <a:srgbClr val="0000cc"/>
                </a:solidFill>
                <a:latin typeface="Times New Roman"/>
              </a:rPr>
              <a:t>BD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 (ujęcie realne). Zachodzi bilan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c"/>
                </a:solidFill>
                <a:latin typeface="Times New Roman"/>
              </a:rPr>
              <a:t>MS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1400" spc="-1" strike="noStrike">
                <a:solidFill>
                  <a:srgbClr val="0000cc"/>
                </a:solidFill>
                <a:latin typeface="Times New Roman"/>
              </a:rPr>
              <a:t>BS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i="1" lang="en-US" sz="1400" spc="-1" strike="noStrike">
                <a:solidFill>
                  <a:srgbClr val="0000cc"/>
                </a:solidFill>
                <a:latin typeface="Times New Roman"/>
              </a:rPr>
              <a:t>W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i="1" lang="en-US" sz="1400" spc="-1" strike="noStrike">
                <a:solidFill>
                  <a:srgbClr val="0000cc"/>
                </a:solidFill>
                <a:latin typeface="Times New Roman"/>
              </a:rPr>
              <a:t>MD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1400" spc="-1" strike="noStrike">
                <a:solidFill>
                  <a:srgbClr val="0000cc"/>
                </a:solidFill>
                <a:latin typeface="Times New Roman"/>
              </a:rPr>
              <a:t>B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daż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popyt na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435480" y="2279520"/>
          <a:ext cx="5224320" cy="38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5480" y="2279520"/>
                    <a:ext cx="5224320" cy="3824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250920" y="4437000"/>
            <a:ext cx="29718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Nadwyżka popytu na pieniądz jest równoważona przez nadwyżkę podaży obligacji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Rynki : pieniądza i obligacji są ściśle powiązane. Jeśli stopa procentowa jest zbyt niska, na rynku pieniądza występuje  nadwyżka popytu na pieniądz, która jest równoważona przez nadwyżkę podaży obligacj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3573360"/>
            <a:ext cx="1714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BS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-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BD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MD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-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4005360"/>
            <a:ext cx="237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adwyżka podaży   = 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adwyżka popytu obligacji                           na pieniąd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miany stanu równowagi na rynku pieniądz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452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0000" y="1628640"/>
            <a:ext cx="921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44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533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3048120"/>
            <a:ext cx="5639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276720" y="2362320"/>
          <a:ext cx="5545080" cy="421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362320"/>
                    <a:ext cx="5545080" cy="4213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228600" y="2362320"/>
            <a:ext cx="2811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zesunięcie krzywej podaży </a:t>
            </a:r>
            <a:r>
              <a:rPr b="1" i="1" lang="en-US" sz="1400" spc="-1" strike="noStrike">
                <a:solidFill>
                  <a:srgbClr val="0000cc"/>
                </a:solidFill>
                <a:latin typeface="Times New Roman"/>
              </a:rPr>
              <a:t>MS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pionowej) powoduje zmianę stopy procentowej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zrost podaży pieniądza wywołuje obniżkę stopy procentowej, spadek podaży pieniądza – odpowiednio podwyżkę stopy procentowej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zrost lub spadek realnego dochodu narodowego powoduje przesunięcie krzywej popytu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MD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zrost realnego dochodu narodowego oznacza zwiększenie popytu na pieniądz i przy niezmienionej podaży pieniądza –wywołuje wzrost stopy procentowej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280" y="2205000"/>
            <a:ext cx="7705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ziękuję za uwag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3357720"/>
            <a:ext cx="7777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 następnym wykładz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MODEL IS-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7705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óżne agregaty pienięż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2421000"/>
            <a:ext cx="84247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aza monetarna (pieniądz wielkiej mocy)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ejmuje gotówkę w obiegu (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 gotówkę w systemie bankowym, czyli gotówkowe rezerwy bankowe (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= 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l-GR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l-GR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stopa rezerw gotówkowych bankó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stosunek gotówki w obiegu do depozytów sektora prywatneg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= </a:t>
            </a:r>
            <a:r>
              <a:rPr b="1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l-GR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ieniądz transakcyjny </a:t>
            </a:r>
            <a:r>
              <a:rPr b="1" i="1" lang="pl-PL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</a:t>
            </a:r>
            <a:r>
              <a:rPr b="1" lang="pl-PL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ejmuje gotówkę w obiegu (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 depozyty bankowe 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ista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= 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= </a:t>
            </a:r>
            <a:r>
              <a:rPr b="1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zersze definicje pieniądza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zw. quasi-pieniądz</a:t>
            </a:r>
            <a:r>
              <a:rPr b="1" lang="pl-PL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ieniądz </a:t>
            </a:r>
            <a:r>
              <a:rPr b="1" i="1" lang="pl-PL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</a:t>
            </a:r>
            <a:r>
              <a:rPr b="1" lang="pl-PL" sz="1600" spc="-1" strike="noStrike">
                <a:solidFill>
                  <a:srgbClr val="0000cc"/>
                </a:solidFill>
                <a:latin typeface="Times New Roman"/>
              </a:rPr>
              <a:t>3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ejmuje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niądz 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oraz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wkłady terminowe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ktora prywatnego i wszystkie depozyty sektora publicznego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1628640"/>
            <a:ext cx="77058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nożnik kreacji pieniądz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7885080" y="2163600"/>
                <a:ext cx="7905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908000" y="2421000"/>
                <a:ext cx="230508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βD</m:t>
                    </m:r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003640" y="4797360"/>
                <a:ext cx="13687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241452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628640"/>
            <a:ext cx="921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05320" y="44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1125360"/>
            <a:ext cx="56386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48360" y="31417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topa rezerw bankowych </a:t>
            </a:r>
            <a:r>
              <a:rPr b="1" i="1" lang="el-GR" sz="1600" spc="-1" strike="noStrike">
                <a:solidFill>
                  <a:srgbClr val="0000cc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7885080" y="2997360"/>
                <a:ext cx="83196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468360" y="3860640"/>
            <a:ext cx="7912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nożnik kreacji pieniądz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znacza zmianę w ilości pieniądza transakcyjnego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w wyniku wzrostu bazy monetarnej o jednostkę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826920" y="4797360"/>
                <a:ext cx="33213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βD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βD</m:t>
                        </m:r>
                        <m:r>
                          <m:t xml:space="preserve">+</m:t>
                        </m:r>
                        <m:r>
                          <m:t xml:space="preserve">α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539640" y="5805360"/>
            <a:ext cx="7912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nożnik kreacji pieniądza</a:t>
            </a:r>
            <a:r>
              <a:rPr b="1" i="1" lang="en-U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jest tym większy, im mniejsza jest stopa rezerw gotówkowych banków i im mniejszy stosunek gotówki w obiegu do depozytó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556000" y="3068640"/>
                <a:ext cx="228744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βD</m:t>
                    </m:r>
                    <m:r>
                      <m:t xml:space="preserve">+</m:t>
                    </m:r>
                    <m:r>
                      <m:t xml:space="preserve">α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468360" y="2421000"/>
            <a:ext cx="143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ieniądz </a:t>
            </a:r>
            <a:r>
              <a:rPr b="1" i="1" lang="en-U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</a:t>
            </a:r>
            <a:r>
              <a:rPr b="1" lang="en-U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3068640"/>
            <a:ext cx="22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aza monetarna </a:t>
            </a:r>
            <a:r>
              <a:rPr b="1" i="1" lang="en-U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</a:t>
            </a:r>
            <a:r>
              <a:rPr b="1" lang="en-U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349360"/>
            <a:ext cx="273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arametr struktury pieniądza transakcyjnego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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1360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jaki sposób banki dokonują kreacji pieniądza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1452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1628640"/>
            <a:ext cx="921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44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533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3048120"/>
            <a:ext cx="5639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09480" y="2308320"/>
          <a:ext cx="7780320" cy="425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308320"/>
                    <a:ext cx="7780320" cy="42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działa mechanizm mnożnika depozytowego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1452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40000" y="1628640"/>
            <a:ext cx="921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44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533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38280" y="3048120"/>
            <a:ext cx="5639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11280" y="2060640"/>
          <a:ext cx="7896240" cy="516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060640"/>
                    <a:ext cx="789624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laczego potrzebujemy pieniędz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1452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40000" y="1628640"/>
            <a:ext cx="921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44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533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6920" y="5445000"/>
            <a:ext cx="5639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2349360"/>
            <a:ext cx="82818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trzeba posiadania pieniądza ma źródło w jego podstawowych funkcjach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funkcji środka wymian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funkcji środka tezauryzacji (gromadzenia bogactw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yodrębnia się trzy motywy posiadania pieniądza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motyw transakcyjny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ieniądz potrzebny do dokonywania transakcj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motyw przezorności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ieniądz potrzebny na nieprzewidziane wydatk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motyw portfelowy (spekulacyjny)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k rozdzielić bogactwo (majątek) między aktywa o niskim i wysokim stopniu ryzyka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ka ma być struktura portfela inwestycji finansowych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niechęć do ryzyka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-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zasada nieumieszczania „wszystkich jaj w jednym koszyku”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pyt na pieniądz – efekt substytucyjn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1452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40000" y="1628640"/>
            <a:ext cx="921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05320" y="44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195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565360"/>
            <a:ext cx="374328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2565360"/>
            <a:ext cx="8282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d czego zależy proporcja podziału majątku między: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zasoby pieniędz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(gotówka + nieoprocentowane wkłady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a vista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oprocentowane obligacj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233000" y="3849120"/>
            <a:ext cx="6984000" cy="1995840"/>
            <a:chOff x="1233000" y="3849120"/>
            <a:chExt cx="6984000" cy="1995840"/>
          </a:xfrm>
        </p:grpSpPr>
        <p:cxnSp>
          <p:nvCxnSpPr>
            <p:cNvPr id="97" name="_s118805"/>
            <p:cNvCxnSpPr>
              <a:stCxn id="98" idx="0"/>
              <a:endCxn id="99" idx="2"/>
            </p:cNvCxnSpPr>
            <p:nvPr/>
          </p:nvCxnSpPr>
          <p:spPr>
            <a:xfrm flipV="1" rot="16200000">
              <a:off x="5500800" y="3877200"/>
              <a:ext cx="227520" cy="1778040"/>
            </a:xfrm>
            <a:prstGeom prst="bentConnector3">
              <a:avLst>
                <a:gd name="adj1" fmla="val 496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_s118803"/>
            <p:cNvCxnSpPr>
              <a:stCxn id="101" idx="0"/>
              <a:endCxn id="99" idx="2"/>
            </p:cNvCxnSpPr>
            <p:nvPr/>
          </p:nvCxnSpPr>
          <p:spPr>
            <a:xfrm flipH="1" flipV="1" rot="5400000">
              <a:off x="3722760" y="3876840"/>
              <a:ext cx="227520" cy="1779120"/>
            </a:xfrm>
            <a:prstGeom prst="bentConnector3">
              <a:avLst>
                <a:gd name="adj1" fmla="val 496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9" name="_s118799"/>
            <p:cNvSpPr/>
            <p:nvPr/>
          </p:nvSpPr>
          <p:spPr>
            <a:xfrm>
              <a:off x="3998520" y="3849120"/>
              <a:ext cx="1452960" cy="803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400" rIns="50400" tIns="25200" bIns="25200" anchor="ctr">
              <a:noAutofit/>
            </a:bodyPr>
            <a:p>
              <a:pPr marL="343080" indent="-343080"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majątek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_s118800"/>
            <p:cNvSpPr/>
            <p:nvPr/>
          </p:nvSpPr>
          <p:spPr>
            <a:xfrm>
              <a:off x="1233000" y="4880160"/>
              <a:ext cx="3427920" cy="964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400" rIns="50400" tIns="25200" bIns="25200" anchor="ctr">
              <a:no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pieniąd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gotówk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+ nieoprocentowane wkłady a vis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_s118802"/>
            <p:cNvSpPr/>
            <p:nvPr/>
          </p:nvSpPr>
          <p:spPr>
            <a:xfrm>
              <a:off x="4789080" y="4880160"/>
              <a:ext cx="3427920" cy="964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400" rIns="50400" tIns="25200" bIns="25200" anchor="ctr">
              <a:no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oprocentowane obligacj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tymalny zasób pieniądz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452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40000" y="1628640"/>
            <a:ext cx="921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195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2565360"/>
            <a:ext cx="374328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2565360"/>
            <a:ext cx="80661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 jednej strony występują korzyści utrzymywania pewnej ilości pieniądza, z drugiej - również koszty.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Kosztem alternatywny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utrzymywania pieniądza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są utracone odsetk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z powodu nieulokowania pieniędzy w oprocentowane obligacj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udzie będą zwiększać zasoby pieniądza dopóty, dopóki krańcowa korzyść z utrzymywania pieniądza w gotówce będzie wyższa od kosztu krańcoweg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4581360"/>
            <a:ext cx="8066160" cy="18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Warunek optymalnego zasobu pieniądz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MB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krańcowa korzyść = koszt krańc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pyt na pieniądz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1452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40000" y="1628640"/>
            <a:ext cx="921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565360"/>
            <a:ext cx="374328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3429000"/>
            <a:ext cx="2232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+ 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f ( Y, r )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2349360"/>
            <a:ext cx="80661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Popyt na pieniądz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 jest funkcją realnego dochodu narodowego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 i stopy procentowe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4869000"/>
            <a:ext cx="273528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zrost stopy procentowej – wzrost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i="1" lang="en-US" sz="1400" spc="-1" strike="noStrike">
                <a:solidFill>
                  <a:srgbClr val="0000cc"/>
                </a:solidFill>
                <a:latin typeface="Times New Roman"/>
              </a:rPr>
              <a:t>M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zrost realnego dochodu narodowego – wzrost</a:t>
            </a: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M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352680" y="2895480"/>
          <a:ext cx="5531040" cy="367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895480"/>
                    <a:ext cx="5531040" cy="3679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5T13:03:01Z</dcterms:created>
  <dc:creator>Irena Woroniecka</dc:creator>
  <dc:description/>
  <dc:language>en-US</dc:language>
  <cp:lastModifiedBy>Irena Woroniecka</cp:lastModifiedBy>
  <dcterms:modified xsi:type="dcterms:W3CDTF">2007-03-22T12:38:43Z</dcterms:modified>
  <cp:revision>531</cp:revision>
  <dc:subject/>
  <dc:title>POLITYKA STÓP PROCENTOWYCH. CEL INFLACYJNY I STABILIZACYJNY. </dc:title>
</cp:coreProperties>
</file>