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76327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5280" y="4658760"/>
            <a:ext cx="76327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37245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306320" y="2708280"/>
            <a:ext cx="37245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95280" y="4658760"/>
            <a:ext cx="37245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306320" y="4658760"/>
            <a:ext cx="37245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2457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975760" y="2708280"/>
            <a:ext cx="2457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556600" y="2708280"/>
            <a:ext cx="2457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95280" y="4658760"/>
            <a:ext cx="2457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975760" y="4658760"/>
            <a:ext cx="2457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556600" y="4658760"/>
            <a:ext cx="2457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95280" y="2708280"/>
            <a:ext cx="763272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7632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37245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306320" y="2708280"/>
            <a:ext cx="37245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94920" y="1628280"/>
            <a:ext cx="77058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37245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306320" y="2708280"/>
            <a:ext cx="37245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95280" y="4658760"/>
            <a:ext cx="37245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37245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06320" y="2708280"/>
            <a:ext cx="37245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306320" y="4658760"/>
            <a:ext cx="37245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37245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306320" y="2708280"/>
            <a:ext cx="37245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5280" y="4658760"/>
            <a:ext cx="76327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5280" y="2708280"/>
            <a:ext cx="7632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627280" y="333360"/>
            <a:ext cx="5400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Irena Woroniecka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MAKROEKONOMIA II   wykład 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Wydział Informatycznych Technik Zarządzania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Wyższa Szkoła Informatyki Stosowanej i Zarządzania WIT</a:t>
            </a:r>
            <a:br>
              <a:rPr sz="1400"/>
            </a:b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539640" y="260280"/>
            <a:ext cx="1584360" cy="1081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647640" y="2286000"/>
            <a:ext cx="784872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ykład 6</a:t>
            </a:r>
            <a:br>
              <a:rPr sz="2800"/>
            </a:br>
            <a:br>
              <a:rPr sz="1800"/>
            </a:b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MODELE WZROSTU GOSPODARCZ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054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Model Leontiefa –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współczynniki technicz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61880" y="2222640"/>
          <a:ext cx="8110800" cy="4271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2222640"/>
                    <a:ext cx="8110800" cy="42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1628640"/>
            <a:ext cx="77058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Macierz A w statycznym modelu Leontiefa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68360" y="2276640"/>
          <a:ext cx="8148600" cy="4035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276640"/>
                    <a:ext cx="8148600" cy="40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640" y="1628280"/>
            <a:ext cx="79200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Tablica Input-Outpu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117440" y="2354400"/>
          <a:ext cx="688032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7440" y="2354400"/>
                    <a:ext cx="68803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000" y="1628640"/>
            <a:ext cx="77058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Dynamiczny model Leontiefa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65120" y="2279520"/>
          <a:ext cx="8102520" cy="417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2279520"/>
                    <a:ext cx="8102520" cy="41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19280" y="1676520"/>
            <a:ext cx="7705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kcja produkcji Cobba-Douglas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2514600"/>
            <a:ext cx="7632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pl-PL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unkcja produkcji Cobba-Douglasa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 ma postać funkcji potęgowej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4114800"/>
            <a:ext cx="79390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pl-PL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rametry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unkcji produkcji Cobba-Douglasa </a:t>
            </a:r>
            <a:r>
              <a:rPr b="1" i="1" lang="pl-PL" sz="16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</a:t>
            </a:r>
            <a:r>
              <a:rPr b="1" i="1" lang="pl-PL" sz="16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ją ważną interpretację ekonomiczną – są interpretowane jako współczynniki </a:t>
            </a:r>
            <a:r>
              <a:rPr b="1" lang="pl-PL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lastyczności produkcji względem kapitału i pracy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ry </a:t>
            </a:r>
            <a:r>
              <a:rPr b="1" i="1" lang="pl-PL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</a:t>
            </a:r>
            <a:r>
              <a:rPr b="1" i="1" lang="pl-PL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informują również o efektach skali produkcj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  </a:t>
            </a:r>
            <a:r>
              <a:rPr b="1" lang="pl-PL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ałe przychody skali</a:t>
            </a:r>
            <a:r>
              <a:rPr b="1" lang="pl-PL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pl-PL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dy </a:t>
            </a:r>
            <a:r>
              <a:rPr b="1" lang="pl-PL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pl-PL" sz="16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pl-PL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+ </a:t>
            </a:r>
            <a:r>
              <a:rPr b="1" i="1" lang="pl-PL" sz="16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pl-PL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pl-PL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  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snące przychody skali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dy 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pl-PL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i="1" lang="pl-PL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  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ejące przychody skali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dy 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pl-PL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i="1" lang="pl-PL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1012680" y="3132000"/>
                <a:ext cx="235116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α</m:t>
                        </m:r>
                      </m:sup>
                    </m:sSup>
                    <m:r>
                      <m:t xml:space="preserve"> </m:t>
                    </m:r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 </m:t>
                        </m:r>
                        <m:r>
                          <m:t xml:space="preserve">β</m:t>
                        </m:r>
                      </m:sup>
                    </m:sSup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28600" y="4114800"/>
            <a:ext cx="72770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dzie: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 produkcja,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 kapitał,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 praca,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arametr efektywności procesu produkcyjnego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współczynnik określający udział obu czynników: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 produkcji,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&lt; </a:t>
            </a:r>
            <a:r>
              <a:rPr b="1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1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,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arametr efektów skali (miara stopnia jednorodności funkcji produkcji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arametr substytucji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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spółczynnik elastyczności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bstytucji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608040" y="2978280"/>
                <a:ext cx="454032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γ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 </m:t>
                    </m:r>
                    <m:r>
                      <m:t xml:space="preserve">δ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ρ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δ</m:t>
                    </m:r>
                    <m:r>
                      <m:t xml:space="preserve">)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ρ</m:t>
                        </m:r>
                      </m:sup>
                    </m:sSup>
                    <m:r>
                      <m:t xml:space="preserve"> 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ν</m:t>
                            </m:r>
                          </m:num>
                          <m:den>
                            <m:r>
                              <m:t xml:space="preserve">ρ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2286000" y="1600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nkcja 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2286000"/>
            <a:ext cx="8534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04920" indent="-3049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kcja produkcji CES o stałej elastyczności substytucji </a:t>
            </a:r>
            <a:r>
              <a:rPr b="1" lang="pl-PL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i="1" lang="pl-PL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stant Elasticity of  Substitution</a:t>
            </a:r>
            <a:r>
              <a:rPr b="1" lang="pl-PL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 następującą postać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26240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6305400" y="3780000"/>
                <a:ext cx="102744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5105520" y="1676520"/>
            <a:ext cx="281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marL="234720" indent="-2347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Arrow, Chedery, Minhas, Solow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34720" indent="-2347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pl-PL" sz="1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az</a:t>
            </a:r>
            <a:r>
              <a:rPr b="1" lang="pl-PL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pl-PL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rown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3162240"/>
            <a:ext cx="3809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Współczynnik elastyczności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substytucji </a:t>
            </a:r>
            <a:r>
              <a:rPr b="1" i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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jest stały i równy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94920" y="1599840"/>
            <a:ext cx="59770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toda Kmen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777240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Metoda Kmenty polega </a:t>
            </a:r>
            <a:r>
              <a:rPr b="1" lang="pl-PL" sz="1600" spc="-1" strike="noStrike">
                <a:solidFill>
                  <a:srgbClr val="0000ff"/>
                </a:solidFill>
                <a:latin typeface="Times New Roman"/>
              </a:rPr>
              <a:t>na rozwinięciu w szereg Taylora zlogarytmowanej postaci funkcji CES wokół </a:t>
            </a:r>
            <a:r>
              <a:rPr b="1" i="1" lang="pl-PL" sz="1600" spc="-1" strike="noStrike">
                <a:solidFill>
                  <a:srgbClr val="0000ff"/>
                </a:solidFill>
                <a:latin typeface="Symbol"/>
                <a:ea typeface="Symbol"/>
              </a:rPr>
              <a:t></a:t>
            </a:r>
            <a:r>
              <a:rPr b="1" lang="pl-PL" sz="1600" spc="-1" strike="noStrike">
                <a:solidFill>
                  <a:srgbClr val="0000ff"/>
                </a:solidFill>
                <a:latin typeface="Times New Roman"/>
              </a:rPr>
              <a:t> = 0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 z dokładnością do drugiej pochodnej i estymacji parametrów powstałej w taki sposób funkcji liniowej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917640" y="3092400"/>
                <a:ext cx="73087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γ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νδ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ν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δ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ρ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δ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914400" y="3962520"/>
                <a:ext cx="384804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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914400" y="4572000"/>
                <a:ext cx="49546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914400" y="5181480"/>
                <a:ext cx="554508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γ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νδ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ν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δ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,5</m:t>
                    </m:r>
                    <m:r>
                      <m:t xml:space="preserve"> </m:t>
                    </m:r>
                    <m:r>
                      <m:t xml:space="preserve">νρ</m:t>
                    </m:r>
                    <m:r>
                      <m:t xml:space="preserve"> </m:t>
                    </m:r>
                    <m:r>
                      <m:t xml:space="preserve">δ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δ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457200" y="5715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Metoda aproksymacji funkcji CES zaproponowana przez Kmentę została przedstawiona bardziej szczegółowo w dodatku do wykładu 6 (dostępnym w materiałach dydaktycznych w UBI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77058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nkcje produkcji -porównani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74760" y="3044880"/>
          <a:ext cx="4044960" cy="3044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4760" y="3044880"/>
                    <a:ext cx="4044960" cy="30448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4572000" y="3044880"/>
          <a:ext cx="3886200" cy="3025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3044880"/>
                    <a:ext cx="3886200" cy="30258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3809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ff"/>
                </a:solidFill>
                <a:latin typeface="Times New Roman"/>
              </a:rPr>
              <a:t>Izokwanta </a:t>
            </a:r>
            <a:r>
              <a:rPr b="1" lang="pl-PL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odukcji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ff"/>
                </a:solidFill>
                <a:latin typeface="Times New Roman"/>
              </a:rPr>
              <a:t>funkcja produkcji </a:t>
            </a:r>
            <a:r>
              <a:rPr b="1" lang="pl-PL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bba-Douglasa</a:t>
            </a:r>
            <a:r>
              <a:rPr b="1" lang="pl-PL" sz="1400" spc="-1" strike="noStrike">
                <a:solidFill>
                  <a:srgbClr val="0000ff"/>
                </a:solidFill>
                <a:latin typeface="Times New Roman"/>
              </a:rPr>
              <a:t> lub C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0" y="2438280"/>
            <a:ext cx="3809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ff"/>
                </a:solidFill>
                <a:latin typeface="Times New Roman"/>
              </a:rPr>
              <a:t>Izokwanta </a:t>
            </a:r>
            <a:r>
              <a:rPr b="1" lang="pl-PL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odukcj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ff"/>
                </a:solidFill>
                <a:latin typeface="Times New Roman"/>
              </a:rPr>
              <a:t>Leontiefowska funkcja produkcj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77058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ozwój neoklasycznych modeli wzrostu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apoczątkowany przez Solow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652320" y="2819520"/>
          <a:ext cx="7837560" cy="347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2320" y="2819520"/>
                    <a:ext cx="7837560" cy="34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77058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kompozycja Solow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611280" y="2781360"/>
                <a:ext cx="187308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,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250920" y="2276640"/>
            <a:ext cx="7851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49400" indent="-1494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unkcja produkcj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49400" indent="-1494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743200" y="2421000"/>
            <a:ext cx="61498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64960" indent="-2649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pl-PL" sz="16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pl-PL" sz="1600" spc="-1" strike="noStrike">
                <a:solidFill>
                  <a:srgbClr val="0000ff"/>
                </a:solidFill>
                <a:latin typeface="Times New Roman"/>
              </a:rPr>
              <a:t> – odzwierciedla wpływ egzogenicznego postępu technicznego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nieucieleśnionego w żadnym z czynników produkcji, czynnik ten określany jest również jako ogólna produktywność czynników wytwórczych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3573360"/>
            <a:ext cx="79246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191880" indent="-191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 zróżniczkowaniu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1880" indent="-191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612720" y="5583240"/>
                <a:ext cx="676764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t xml:space="preserve">ΔA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A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</m:den>
                    </m:f>
                    <m:f>
                      <m:num>
                        <m:r>
                          <m:t xml:space="preserve">ΔK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A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L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</m:den>
                    </m:f>
                    <m:f>
                      <m:num>
                        <m:r>
                          <m:t xml:space="preserve">ΔL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611280" y="4005360"/>
                <a:ext cx="496872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,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ΔA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A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 </m:t>
                    </m:r>
                    <m:r>
                      <m:t xml:space="preserve">ΔK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A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L</m:t>
                        </m:r>
                      </m:den>
                    </m:f>
                    <m:r>
                      <m:t xml:space="preserve"> </m:t>
                    </m:r>
                    <m:r>
                      <m:t xml:space="preserve">ΔL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179280" y="5084640"/>
            <a:ext cx="792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18800" indent="-1188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 następnie podzieleniu stronami przez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zyskujemy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8800" indent="-1188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211640" y="5157720"/>
                <a:ext cx="1224000" cy="2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,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4240" y="2209680"/>
            <a:ext cx="7713720" cy="38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04920" indent="-3049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266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Modele Harroda i Dom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266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Model Kalecki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266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Model Leontief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266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Funkcje produkcj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Funkcja Cobba-Douglas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Funkcja 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266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Dekompozycja Solow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16002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Zakres wykład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77058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Dekompozycja Solowa – c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79280" y="3860640"/>
            <a:ext cx="662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298800" indent="-2988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pl-PL" sz="1600" spc="-1" strike="noStrike">
                <a:solidFill>
                  <a:srgbClr val="0000ff"/>
                </a:solidFill>
                <a:latin typeface="Times New Roman"/>
              </a:rPr>
              <a:t>MP</a:t>
            </a:r>
            <a:r>
              <a:rPr b="1" i="1" lang="pl-PL" sz="1600" spc="-1" strike="noStrike" baseline="-25000">
                <a:solidFill>
                  <a:srgbClr val="0000ff"/>
                </a:solidFill>
                <a:latin typeface="Times New Roman"/>
              </a:rPr>
              <a:t>K</a:t>
            </a:r>
            <a:r>
              <a:rPr b="1" i="1" lang="pl-PL" sz="1600" spc="-1" strike="noStrike">
                <a:solidFill>
                  <a:srgbClr val="0000ff"/>
                </a:solidFill>
                <a:latin typeface="Times New Roman"/>
              </a:rPr>
              <a:t>  , AP</a:t>
            </a:r>
            <a:r>
              <a:rPr b="1" i="1" lang="pl-PL" sz="1600" spc="-1" strike="noStrike" baseline="-25000">
                <a:solidFill>
                  <a:srgbClr val="0000ff"/>
                </a:solidFill>
                <a:latin typeface="Times New Roman"/>
              </a:rPr>
              <a:t>K</a:t>
            </a:r>
            <a:r>
              <a:rPr b="1" lang="pl-PL" sz="16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pl-PL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pl-PL" sz="1600" spc="-1" strike="noStrike">
                <a:solidFill>
                  <a:srgbClr val="0000ff"/>
                </a:solidFill>
                <a:latin typeface="Times New Roman"/>
              </a:rPr>
              <a:t>– krańcowa i przeciętna produktywność kapitału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800" indent="-2988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pl-PL" sz="1600" spc="-1" strike="noStrike">
                <a:solidFill>
                  <a:srgbClr val="0000ff"/>
                </a:solidFill>
                <a:latin typeface="Times New Roman"/>
              </a:rPr>
              <a:t>MP</a:t>
            </a:r>
            <a:r>
              <a:rPr b="1" i="1" lang="pl-PL" sz="1600" spc="-1" strike="noStrike" baseline="-25000">
                <a:solidFill>
                  <a:srgbClr val="0000ff"/>
                </a:solidFill>
                <a:latin typeface="Times New Roman"/>
              </a:rPr>
              <a:t>L</a:t>
            </a:r>
            <a:r>
              <a:rPr b="1" i="1" lang="pl-PL" sz="1600" spc="-1" strike="noStrike">
                <a:solidFill>
                  <a:srgbClr val="0000ff"/>
                </a:solidFill>
                <a:latin typeface="Times New Roman"/>
              </a:rPr>
              <a:t>  , AP</a:t>
            </a:r>
            <a:r>
              <a:rPr b="1" i="1" lang="pl-PL" sz="1600" spc="-1" strike="noStrike" baseline="-25000">
                <a:solidFill>
                  <a:srgbClr val="0000ff"/>
                </a:solidFill>
                <a:latin typeface="Times New Roman"/>
              </a:rPr>
              <a:t>L</a:t>
            </a:r>
            <a:r>
              <a:rPr b="1" lang="pl-PL" sz="16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pl-PL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pl-PL" sz="1600" spc="-1" strike="noStrike">
                <a:solidFill>
                  <a:srgbClr val="0000ff"/>
                </a:solidFill>
                <a:latin typeface="Times New Roman"/>
              </a:rPr>
              <a:t>– krańcowa i przeciętna produktywność prac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800" indent="-2988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pl-PL" sz="1600" spc="-1" strike="noStrike">
                <a:solidFill>
                  <a:srgbClr val="0000ff"/>
                </a:solidFill>
                <a:latin typeface="Times New Roman"/>
              </a:rPr>
              <a:t>e</a:t>
            </a:r>
            <a:r>
              <a:rPr b="1" i="1" lang="pl-PL" sz="1600" spc="-1" strike="noStrike" baseline="-25000">
                <a:solidFill>
                  <a:srgbClr val="0000ff"/>
                </a:solidFill>
                <a:latin typeface="Times New Roman"/>
              </a:rPr>
              <a:t>K</a:t>
            </a:r>
            <a:r>
              <a:rPr b="1" i="1" lang="pl-PL" sz="1600" spc="-1" strike="noStrike">
                <a:solidFill>
                  <a:srgbClr val="0000ff"/>
                </a:solidFill>
                <a:latin typeface="Times New Roman"/>
              </a:rPr>
              <a:t>  , e</a:t>
            </a:r>
            <a:r>
              <a:rPr b="1" i="1" lang="pl-PL" sz="1600" spc="-1" strike="noStrike" baseline="-25000">
                <a:solidFill>
                  <a:srgbClr val="0000ff"/>
                </a:solidFill>
                <a:latin typeface="Times New Roman"/>
              </a:rPr>
              <a:t>L</a:t>
            </a:r>
            <a:r>
              <a:rPr b="1" lang="pl-PL" sz="16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pl-PL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pl-PL" sz="1600" spc="-1" strike="noStrike">
                <a:solidFill>
                  <a:srgbClr val="0000ff"/>
                </a:solidFill>
                <a:latin typeface="Times New Roman"/>
              </a:rPr>
              <a:t>– elastyczność produkcji względem kapitału i pracy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30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539640" y="2852640"/>
                <a:ext cx="421020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Δ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ΔK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ΔL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477360" y="2349000"/>
            <a:ext cx="46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zyskujemy formułę na tempo wzrostu produkcji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6920" y="4982400"/>
            <a:ext cx="35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zyli tzw.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ekompozycję Solowa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39640" y="5516640"/>
                <a:ext cx="42958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Δ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f>
                      <m:num>
                        <m:r>
                          <m:t xml:space="preserve">ΔK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f>
                      <m:num>
                        <m:r>
                          <m:t xml:space="preserve">ΔL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9640" y="162828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kompozycja Solowa –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kładowe wzrostu gospodarczeg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30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8360" y="3429000"/>
            <a:ext cx="705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tempo wzrostu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tempo zmian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stopa akumulacji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tempo wzrost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gospodarczego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technicznych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kapitału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nakładu pra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98160" y="2204640"/>
            <a:ext cx="225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kompozycja Solowa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428760" y="2637000"/>
                <a:ext cx="6538680" cy="72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Δ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f>
                      <m:num>
                        <m:r>
                          <m:t xml:space="preserve">ΔK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f>
                      <m:num>
                        <m:r>
                          <m:t xml:space="preserve">ΔL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395280" y="4220640"/>
            <a:ext cx="756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zy założeniu stałych przychodów skali dekompozycja Solowa przyjmuje postać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441360" y="4653000"/>
                <a:ext cx="46735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Δ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α</m:t>
                    </m:r>
                    <m:f>
                      <m:num>
                        <m:r>
                          <m:t xml:space="preserve">ΔK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ΔL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395280" y="5572800"/>
            <a:ext cx="820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Na wzrost gospodarczego składają się; postęp techniczny, akumulacja kapitału i wzrost nakładu pracy. Udział akumulacji kapitału i wzrostu zatrudnienia we wzroście gospodarczym determinowany jest przez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elastyczności produkcji względem tych czynników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162828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kompozycja Solowa – inne wniosk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0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5280" y="2279160"/>
            <a:ext cx="8137440" cy="16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blem w tym, że podczas, gdy nakłady kapitału i pracy oraz ich produktywności można zmierzyć, wzrostu ogólnej produktywności czynników produkcji (tempa postępu technicznego) nie można wprost zaobserwować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Dekompozycja Solowa wskazuje, że stopa wzrostu ogólnej produktywności czynników produkcji (tempo zmian technicznych) jest średnią ważoną stóp wzrostu produktywności kapitału i prac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428760" y="4149720"/>
                <a:ext cx="596880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Δ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α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ΔY</m:t>
                            </m:r>
                          </m:num>
                          <m:den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ΔK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</m:e>
                    </m:d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ΔY</m:t>
                            </m:r>
                          </m:num>
                          <m:den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ΔL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517680" y="5229360"/>
                <a:ext cx="2278080" cy="12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t xml:space="preserve">Δ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Y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</m:e>
                        </m:d>
                      </m:num>
                      <m:den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ΔK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243240" y="5229360"/>
                <a:ext cx="2155680" cy="12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t xml:space="preserve">Δ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Y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e>
                        </m:d>
                      </m:num>
                      <m:den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ΔL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9640" y="162828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Dekompozycja Solowa – inne wnioski - c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30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68360" y="5168160"/>
            <a:ext cx="80643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ff"/>
                </a:solidFill>
                <a:uFillTx/>
                <a:latin typeface="Times New Roman"/>
              </a:rPr>
              <a:t>Wniosek:</a:t>
            </a:r>
            <a:r>
              <a:rPr b="1" i="1" lang="en-US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Wydajność pracy rośnie zgodnie z tempem postępu technicznego i stopą zmian technicznego uzbrojenia pra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468360" y="2708280"/>
                <a:ext cx="547200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Δ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α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ΔY</m:t>
                            </m:r>
                          </m:num>
                          <m:den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ΔK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</m:e>
                    </m:d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ΔY</m:t>
                            </m:r>
                          </m:num>
                          <m:den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ΔL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5280" y="2276280"/>
            <a:ext cx="756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zekształcając ostatnie równani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95280" y="3644640"/>
            <a:ext cx="756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żna uzyskać formułę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468360" y="4076640"/>
                <a:ext cx="374328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ΔL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α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ΔK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ΔL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4356000" y="422064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ub inaczej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5651640" y="3933720"/>
                <a:ext cx="2520720" cy="11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t xml:space="preserve">Δ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Y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e>
                        </m:d>
                      </m:num>
                      <m:den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α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Δ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K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e>
                        </m:d>
                      </m:num>
                      <m:den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640" y="162828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Porównanie z podejściem Tinberge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30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9640" y="2209680"/>
            <a:ext cx="806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Według Solowa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ydajność pracy rośnie zgodnie z tempem postępu technicznego i stopą zmian technicznego uzbrojenia pracy (suma ważona z wagami 1 i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685800" y="2840040"/>
                <a:ext cx="2779560" cy="11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t xml:space="preserve">Δ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Y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e>
                        </m:d>
                      </m:num>
                      <m:den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Δ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α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Δ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K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e>
                        </m:d>
                      </m:num>
                      <m:den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539640" y="4069440"/>
            <a:ext cx="806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ff"/>
                </a:solidFill>
                <a:latin typeface="Times New Roman"/>
              </a:rPr>
              <a:t>Tinbergen również uzależnia wzrost wydajność pracy od zmian w technicznym uzbrojeniu pracy.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600" spc="-1" strike="noStrike">
                <a:solidFill>
                  <a:srgbClr val="ff0000"/>
                </a:solidFill>
                <a:latin typeface="Times New Roman"/>
              </a:rPr>
              <a:t>Według Tinbergena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  wydajność pracy rośnie zgodnie ze stopami wzrostu: wydajności kapitału i zmian technicznego uzbrojenia pra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685800" y="4952880"/>
                <a:ext cx="2867040" cy="12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t xml:space="preserve">Δ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Y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e>
                        </m:d>
                      </m:num>
                      <m:den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Δ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Y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Y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</m:e>
                        </m:d>
                      </m:den>
                    </m:f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Δ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K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e>
                        </m:d>
                      </m:num>
                      <m:den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3851280" y="5661000"/>
                <a:ext cx="11844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P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u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3733920" y="4951440"/>
            <a:ext cx="4800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ormułę tę można uzyskać po zróżniczkowaniu zależności, że wydajność pracy jest iloczynem wydajności kapitału i technicznego uzbrojenia pracy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5003640" y="5661000"/>
                <a:ext cx="8384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55280" y="2491920"/>
            <a:ext cx="77058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ziękuję za uwagę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63560" y="3510000"/>
            <a:ext cx="77770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04920" indent="-3049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 następnym wykładzi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POLITYKA MONETA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19280" y="1676520"/>
            <a:ext cx="77054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Modele Harroda i Domar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2438280"/>
            <a:ext cx="7777080" cy="38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01680" indent="-3016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Modele Harroda i Domara </a:t>
            </a:r>
            <a:r>
              <a:rPr b="1" lang="pl-PL" sz="1800" spc="-1" strike="noStrike">
                <a:solidFill>
                  <a:srgbClr val="0000ff"/>
                </a:solidFill>
                <a:latin typeface="Times New Roman"/>
              </a:rPr>
              <a:t>łączą w sobie dwie teorie: </a:t>
            </a:r>
            <a:r>
              <a:rPr b="1" lang="pl-PL" sz="1800" spc="-1" strike="noStrike">
                <a:solidFill>
                  <a:srgbClr val="ff0000"/>
                </a:solidFill>
                <a:latin typeface="Times New Roman"/>
              </a:rPr>
              <a:t>mnożnika inwestycyjnego</a:t>
            </a:r>
            <a:r>
              <a:rPr b="1" lang="pl-PL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pl-PL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pl-PL" sz="1800" spc="-1" strike="noStrike">
                <a:solidFill>
                  <a:srgbClr val="ff0000"/>
                </a:solidFill>
                <a:latin typeface="Times New Roman"/>
              </a:rPr>
              <a:t>zasadę akceleracji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(przyspieszenia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Między formułami wzrostu gospodarczego zaproponowanymi przez Harroda i Domara nie ma istotnej różnicy. Obydwie formuły odzwierciedlają </a:t>
            </a:r>
            <a:r>
              <a:rPr b="1" lang="pl-PL" sz="1800" spc="-1" strike="noStrike">
                <a:solidFill>
                  <a:srgbClr val="0000ff"/>
                </a:solidFill>
                <a:latin typeface="Times New Roman"/>
              </a:rPr>
              <a:t>dwoisty charakter inwestycji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6400" indent="-2638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ich zdolność do generowania popytu globalnego przez mechanizmy mnożnikow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6400" indent="-2638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ich zdolność do zwiększania mocy produkcyjnych i tym samym podaży globalnej, zgodnie z zasadą akceleracj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800" spc="-1" strike="noStrike">
                <a:solidFill>
                  <a:srgbClr val="ff0000"/>
                </a:solidFill>
                <a:latin typeface="Times New Roman"/>
              </a:rPr>
              <a:t>Tempo wzrostu gospodarczego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(stopa wzrostu produkcji odpowiada stopie wzrostu inwestycji)</a:t>
            </a:r>
            <a:r>
              <a:rPr b="1" lang="pl-PL" sz="1800" spc="-1" strike="noStrike">
                <a:solidFill>
                  <a:srgbClr val="ff0000"/>
                </a:solidFill>
                <a:latin typeface="Times New Roman"/>
              </a:rPr>
              <a:t> jest determinowane przez współczynnik efektywności inwestycji i stopę oszczędności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(skłonność do oszczędzania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1341000"/>
            <a:ext cx="77054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Model Harrod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905120"/>
            <a:ext cx="777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04920" indent="-3049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unkcja oszczędnośc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24000" y="2276640"/>
            <a:ext cx="2667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298800" indent="-29880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 oznacza stopę oszczędnoś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762120" y="3133800"/>
                <a:ext cx="88560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β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Δ</m:t>
                        </m:r>
                        <m:r>
                          <m:t xml:space="preserve"></m:t>
                        </m:r>
                        <m:r>
                          <m:t xml:space="preserve">Y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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981080" y="3143160"/>
                <a:ext cx="129564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Δ</m:t>
                        </m:r>
                        <m:r>
                          <m:t xml:space="preserve">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4800600" y="3232080"/>
                <a:ext cx="13017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 </m:t>
                    </m:r>
                    <m:r>
                      <m:t xml:space="preserve">Δ</m:t>
                    </m:r>
                    <m:r>
                      <m:t xml:space="preserve"></m:t>
                    </m:r>
                    <m:r>
                      <m:t xml:space="preserve">Y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445788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3695760" y="3238560"/>
                <a:ext cx="876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762120" y="2286000"/>
                <a:ext cx="11318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S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s</m:t>
                    </m:r>
                    <m:r>
                      <m:t xml:space="preserve"> </m:t>
                    </m:r>
                    <m:r>
                      <m:t xml:space="preserve"></m:t>
                    </m:r>
                    <m:r>
                      <m:t xml:space="preserve">Y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80880" y="3886200"/>
            <a:ext cx="777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04920" indent="-3049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Z warunku równowag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3048120" y="3886200"/>
                <a:ext cx="9619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955800" y="4724280"/>
                <a:ext cx="152712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 </m:t>
                    </m:r>
                    <m:r>
                      <m:t xml:space="preserve">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380880" y="4267080"/>
            <a:ext cx="7777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04920" indent="-3049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i powyższych relacji Harrod wyprowadził formułę na faktyczną stopę wzrostu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5410080"/>
            <a:ext cx="79250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04920" indent="-3049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Faktyczna stopa wzrostu gospodarczego zależy wprost proporcjonalnie od stopy oszczędności </a:t>
            </a:r>
            <a:r>
              <a:rPr b="1" i="1" lang="en-US" sz="1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 i odwrotnie proporcjonalnie od krańcowej kapitałochłonności produkcji </a:t>
            </a:r>
            <a:r>
              <a:rPr b="1" i="1" lang="en-US" sz="16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wprost proporcjonalnie od współczynnika akceleracji </a:t>
            </a:r>
            <a:r>
              <a:rPr b="1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, czyli efektywności inwestycji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2743200"/>
            <a:ext cx="777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04920" indent="-3049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Z zasady akceleracji (przyspieszenia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4876920" y="2209680"/>
                <a:ext cx="66492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s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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484360" y="4827600"/>
                <a:ext cx="79236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β</m:t>
                    </m:r>
                    <m:r>
                      <m:t xml:space="preserve"> </m:t>
                    </m:r>
                    <m:r>
                      <m:t xml:space="preserve">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1447920"/>
            <a:ext cx="77058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Model Harroda –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naturalna stopa wzrost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45788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981080"/>
            <a:ext cx="792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18800" indent="-1188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Harrod wyróżnia trzy stopy wzrost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8800" indent="-1188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685800" y="2666880"/>
                <a:ext cx="87480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 </m:t>
                    </m:r>
                    <m:r>
                      <m:t xml:space="preserve">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228600" y="2286000"/>
            <a:ext cx="79246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04920" indent="-3049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Faktyczna stopa wzrostu gospodarczeg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3581280"/>
            <a:ext cx="6705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280440" indent="-2804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opa ta gwarantuje równowagę dynamiczną gospodarki, zapewnia harmonijny wzrost gospodarki, zapewnia optymalne wykorzystanie majątku produkcyjnego i maksymalną oczekiwaną wartość zysk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1948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685800" y="3657600"/>
                <a:ext cx="91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228600" y="4343400"/>
            <a:ext cx="79246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04920" indent="-3049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Naturalna stopa wzrostu gospodarczeg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685800" y="4724280"/>
                <a:ext cx="9810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228600" y="3257640"/>
            <a:ext cx="79246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04920" indent="-3049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Gwarantowana stopa wzrostu gospodarczeg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828800" y="4648320"/>
            <a:ext cx="6705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280440" indent="-2804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aturalna stopa wzrostu jest najwyższą możliwą stopą wzrostu gospodarczego w długim okresie, przy pełnym wykorzystaniu zdolności wytwórczych, przy pełnym wykorzystaniu siły roboczej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9568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882720" y="5775480"/>
                <a:ext cx="2503440" cy="59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ΔL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3733920" y="5715000"/>
            <a:ext cx="495288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04920" indent="-3049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aturalna stopa wzrostu zależy od tempa zmian podaży pracy i tempa wzrostu wydajności pracy (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AP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– przeciętna w gospodarce wydajność pracy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1412640"/>
            <a:ext cx="77058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Model Domar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7812000" y="2421000"/>
                <a:ext cx="79236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s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ΔS</m:t>
                        </m:r>
                      </m:num>
                      <m:den>
                        <m:sSub>
                          <m:e>
                            <m:r>
                              <m:t xml:space="preserve">ΔY</m:t>
                            </m:r>
                          </m:e>
                          <m:sub>
                            <m:r>
                              <m:t xml:space="preserve">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304920" y="1905120"/>
            <a:ext cx="777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04920" indent="-3049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Z teorii mnożnika inwestycyjneg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3048120"/>
            <a:ext cx="7777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04920" indent="-3049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Z zasady akceleracji (przyspieszenia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695760" y="3581280"/>
                <a:ext cx="87624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80880" y="4114800"/>
            <a:ext cx="7777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04920" indent="-3049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Z warunku równowagi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i wcześniejszych założeń wynik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5300640"/>
            <a:ext cx="7777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295560" indent="-2955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Stopa wzrostu inwestycji zależy wprost proporcjonalnie od współczynnika efektywności inwestycji </a:t>
            </a:r>
            <a:r>
              <a:rPr b="1" i="1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, tj.</a:t>
            </a:r>
            <a:r>
              <a:rPr b="1" i="1" lang="en-US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współczynnika akceleracji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odwrotnie proporcjonalnie od krańcowej kapitałochłonności produkcji)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 i od krańcowej skłonności do oszczędzania </a:t>
            </a:r>
            <a:r>
              <a:rPr b="1" i="1" lang="en-US" sz="1600" spc="-1" strike="noStrike">
                <a:solidFill>
                  <a:srgbClr val="ff0000"/>
                </a:solidFill>
                <a:latin typeface="Times New Roman"/>
              </a:rPr>
              <a:t>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5560" indent="-2955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971800" y="4114800"/>
                <a:ext cx="14000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Δ</m:t>
                    </m:r>
                    <m:r>
                      <m:t xml:space="preserve">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Δ</m:t>
                    </m:r>
                    <m:r>
                      <m:t xml:space="preserve">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762120" y="3429000"/>
                <a:ext cx="9414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β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Δ</m:t>
                        </m:r>
                        <m:r>
                          <m:t xml:space="preserve">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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057400" y="3429000"/>
                <a:ext cx="125100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Δ</m:t>
                        </m:r>
                        <m:r>
                          <m:t xml:space="preserve">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4572000" y="3429000"/>
                <a:ext cx="173988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Δ</m:t>
                    </m:r>
                    <m:r>
                      <m:t xml:space="preserve">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β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4444920" y="2286000"/>
                <a:ext cx="199548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Δ</m:t>
                    </m:r>
                    <m:r>
                      <m:t xml:space="preserve">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m</m:t>
                    </m:r>
                    <m:r>
                      <m:t xml:space="preserve"> </m:t>
                    </m:r>
                    <m:r>
                      <m:t xml:space="preserve">ΔI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 </m:t>
                    </m:r>
                    <m:r>
                      <m:t xml:space="preserve">ΔI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762120" y="2286000"/>
                <a:ext cx="106200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Δ</m:t>
                        </m:r>
                        <m:r>
                          <m:t xml:space="preserve">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ΔI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3695760" y="2362320"/>
                <a:ext cx="876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826920" y="4581360"/>
                <a:ext cx="115272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t xml:space="preserve">Δ</m:t>
                        </m:r>
                        <m:r>
                          <m:t xml:space="preserve">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β</m:t>
                    </m:r>
                    <m:r>
                      <m:t xml:space="preserve"> </m:t>
                    </m:r>
                    <m:r>
                      <m:t xml:space="preserve">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6372360" y="2133720"/>
            <a:ext cx="22320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283320" indent="-2833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dzie s oznacza krańcową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3320" indent="-2833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kłonność do oszczędzan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979640" y="4653000"/>
                <a:ext cx="86364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 </m:t>
                    </m:r>
                    <m:r>
                      <m:t xml:space="preserve">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77058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Model Kaleckieg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843280" y="4581360"/>
                <a:ext cx="720720" cy="6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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476360" y="3860640"/>
                <a:ext cx="10080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Δ</m:t>
                        </m:r>
                        <m:r>
                          <m:t xml:space="preserve">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445788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68360" y="2421000"/>
                <a:ext cx="342108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Δ</m:t>
                        </m:r>
                        <m:r>
                          <m:t xml:space="preserve">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u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179280" y="4653000"/>
            <a:ext cx="2667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01680" indent="-301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- oznacza stopę inwestycj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3500280"/>
            <a:ext cx="3600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04920" indent="-3049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- oznacza krańcową kapitałochłonność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odukcj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9280" y="5300640"/>
            <a:ext cx="352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04920" indent="-3049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- oznacza współczynnik usprawnień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zainwestycyjny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9280" y="5950080"/>
            <a:ext cx="345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04920" indent="-3049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- oznacza parametr amortyzacj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140360" y="2421000"/>
          <a:ext cx="4787640" cy="379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2421000"/>
                    <a:ext cx="4787640" cy="3798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7705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Model Leontief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65120" y="2571840"/>
          <a:ext cx="7953480" cy="367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2571840"/>
                    <a:ext cx="7953480" cy="36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1628640"/>
            <a:ext cx="7920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cierz przepływów międzygałęziowy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95280" y="2565360"/>
          <a:ext cx="8424720" cy="410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565360"/>
                    <a:ext cx="842472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5T13:03:01Z</dcterms:created>
  <dc:creator>Irena Woroniecka</dc:creator>
  <dc:description/>
  <dc:language>en-US</dc:language>
  <cp:lastModifiedBy>Irena Woroniecka</cp:lastModifiedBy>
  <dcterms:modified xsi:type="dcterms:W3CDTF">2007-05-12T18:27:00Z</dcterms:modified>
  <cp:revision>467</cp:revision>
  <dc:subject/>
  <dc:title>POLITYKA STÓP PROCENTOWYCH. CEL INFLACYJNY I STABILIZACYJNY. </dc:title>
</cp:coreProperties>
</file>