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5280" y="465876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0632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7576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55660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528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7576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55660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0632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27280" y="333360"/>
            <a:ext cx="540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rena Woroniecka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AKROEKONOMIA II   wykład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ydział Informatycznych Technik Zarządzania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yższa Szkoła Informatyki Stosowanej i Zarządzania WIT</a:t>
            </a:r>
            <a:br>
              <a:rPr sz="1400"/>
            </a:b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1584360" cy="10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4360" y="2133720"/>
            <a:ext cx="7772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ykład 7</a:t>
            </a:r>
            <a:br>
              <a:rPr sz="2800"/>
            </a:b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POLITYKA MONETA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632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dstawowe stopy procentowe NB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58640" y="-10900080"/>
            <a:ext cx="462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stawowe stopy procentowe N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57560" y="16205040"/>
          <a:ext cx="4108320" cy="1916280"/>
        </p:xfrm>
        <a:graphic>
          <a:graphicData uri="http://schemas.openxmlformats.org/drawingml/2006/table">
            <a:tbl>
              <a:tblPr/>
              <a:tblGrid>
                <a:gridCol w="4108320"/>
              </a:tblGrid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) - minimalna rentowność 7-dniowych bonów pieniężnych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900000" y="2205000"/>
          <a:ext cx="7128000" cy="3732120"/>
        </p:xfrm>
        <a:graphic>
          <a:graphicData uri="http://schemas.openxmlformats.org/drawingml/2006/table">
            <a:tbl>
              <a:tblPr/>
              <a:tblGrid>
                <a:gridCol w="2544840"/>
                <a:gridCol w="2543040"/>
                <a:gridCol w="2040120"/>
              </a:tblGrid>
              <a:tr h="740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procentowa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595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rocentow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595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owiązuje od d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595e3">
                        <a:alpha val="50000"/>
                      </a:srgbClr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referencyjna 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04-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Kredyt lombardow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04-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topa depozytowa NB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04-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yskonto weks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04-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595e3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rezerwy obowiązkowej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od wszystkich wkład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-10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rocentowanie środk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zerwy obowiązkow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y redyskontow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ks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-05-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900000" y="6093000"/>
            <a:ext cx="568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) - minimalna rentowność 7-dniowych bonów pieniężny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148428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ulacja ilości pieniądza w obiegu – instrumenty 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2060640"/>
          <a:ext cx="8077320" cy="442584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57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warda (restrykcyjna) polityka monetar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Miękka (ekspansywna) polityka monetarn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wadzona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 sytuacji silnego zagrożenia inflacyjnego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obrej koniunktu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wadzona 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w sytuacji, gdy nie występuje presja inflacyjna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w okresie recesj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3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ityka polega na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graniczaniu ilości pieniądza w obiegu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w celu zahamowania inflacji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egatywny skutek: osłabienie koniunktu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>
                      <a:noFill/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ityka polega na 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zwiększaniu ilości pieniądza w obiegu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w celu ożywienia gospodarki poprzez wzrost popytu globalneg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egatywny skutek: wzrost infl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>
                      <a:noFill/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menty polityki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odwyższanie stóp procentowych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wyznaczanych przez bank centraln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obniżanie stóp procentowych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wyznaczanych przez bank centraln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zwiększanie stopy rezerw obowiązkowych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zmniejszanie stopy rezerw obowiązkowych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przedaż papierów wartościowych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a otwartym rynk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kup papierów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wartościowych 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a otwartym rynk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1628640"/>
            <a:ext cx="8642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k centralny odpowiada za zarządzanie długiem publicz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2205000"/>
            <a:ext cx="8280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23960" indent="-266760" algn="just">
              <a:lnSpc>
                <a:spcPct val="10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Finansowanie deficytu budżetoweg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za pomocą obligac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przez dodruk pieniąd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Emisja nowych obligacji, mających zastąpić te, których termin wykupu upływ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decyzje dotyczące daty wykupu i oprocentowan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czym polega finansowanie deficytu budżetowego przez sprzedaż obligacji państwowy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Państwo sprzedaje swoje papiery wartościowe (np. obligacje skarbu państwa) bankowi centralnemu w zamian za gotówkę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Bank centralny podejmuje operacje otwartego rynku i sprzedaje te papiery wartościowe na otwartym rynku w zamian za gotówkę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Podaż pieniądza nie ulega zmianie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otówka na sfinansowanie deficytu budżetowego pochodzi z sektora prywatnego, który nabywa obligacje skarbu państw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8480" y="2133720"/>
            <a:ext cx="75470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ziękuję za uwag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3560" y="3510000"/>
            <a:ext cx="7777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następnym wykładz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PREZENTACJA BADAŃ DOTYCZĄCYCH POLITYKI MONETARN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565360"/>
            <a:ext cx="7715160" cy="32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920" indent="-304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ele i instrumenty polityki monetarnej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wykład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rezentacja bada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 wykład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dentyfikacja preferencji decyzyjnych banku centralneg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 kształtowaniu polityki monetarnej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a o politykę makroekonomiczną między bankiem centralnym a rząd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916280"/>
            <a:ext cx="8382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kres wykładu poświęconego polityce monetarn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stawowy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e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dz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łalnośc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 (ustawa z sierpnia 199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95640" y="2708280"/>
            <a:ext cx="30560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„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utrzymanie stabilnego poziomu cen przy jednoczesnym wspieraniu polityki gospodarczej, o ile nie ogranicza to podstawowego celu NBP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5805360"/>
            <a:ext cx="56880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 inflacyjny i jego realizacja w latach 1993-200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lacja na podstawie CPI grudzień do grudnia poprzedniego rok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2060640"/>
          <a:ext cx="5472000" cy="37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060640"/>
                    <a:ext cx="547200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55640" y="1700280"/>
            <a:ext cx="7772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rumenty polityki monetarn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57720"/>
            <a:ext cx="80643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920" indent="-3049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Instrumen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topa procentowa –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pa dyskontowa, po której bank centralny udziela kredytu bankom komercyjnym, stopa procentowa wpływa na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wielkość kreacji pieniąd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topa rezerw obowiązkowyc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ddziałuje na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wielkość mnożnika kreacji pieniąd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operacje otwartego rynku –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nk centralny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zmienia wielkość bazy monetarnej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sprzedając lub kupując papiery wartościowe na otwartym rynk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emisja pieniądza  –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zwiększa wielkość bazy monetarnej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140360" y="2637000"/>
                <a:ext cx="19652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263700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920" indent="-3049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ontrola ilości pieniąd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588000" y="2565360"/>
                <a:ext cx="1311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054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ęcej o operacjach otwartego rynk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28600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Operacje otwartego rynku to transakcje dokonywane z inicjatywy banku centralnego z bankami komercyjnymi.</a:t>
            </a:r>
            <a:r>
              <a:rPr b="1" lang="en-US" sz="1400" spc="-1" strike="noStrike">
                <a:solidFill>
                  <a:srgbClr val="2b4c3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ejmują one</a:t>
            </a:r>
            <a:r>
              <a:rPr b="1" lang="en-US" sz="1400" spc="-1" strike="noStrike">
                <a:solidFill>
                  <a:srgbClr val="2b4c3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przedaż lub kupno papierów wartościowych</a:t>
            </a:r>
            <a:r>
              <a:rPr b="1" lang="en-US" sz="1400" spc="-1" strike="noStrike">
                <a:solidFill>
                  <a:srgbClr val="2b4c3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ub dewiz, a także emisje własnych papierów dłużnych banku centralne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737373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37373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rótkookresowo w niektórych bankach komercyjnych może występować niedobór rezerw pieniężnych, w innych bankach przeciwnie – nadmiar rezerw. Jedne banki mogą uzupełnić brakujące środki, a inne sprzedać ich nadmiar. Transakcje te odbywają się na rynku międzybankowym.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topa procentowa na rynku międzybankowym kształtuje się rynkowo</a:t>
            </a:r>
            <a:r>
              <a:rPr b="1" lang="en-US" sz="1400" spc="-1" strike="noStrike">
                <a:solidFill>
                  <a:srgbClr val="2b4c3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ównoważąc popyt i podaż środków utrzymywanych przez banki komercyjne w banku centralnym.</a:t>
            </a:r>
            <a:r>
              <a:rPr b="1" lang="en-US" sz="1400" spc="-1" strike="noStrike">
                <a:solidFill>
                  <a:srgbClr val="2b4c3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Poprzez interwencję na rynku międzybankowym w formie operacji otwartego rynku bank centralny wpływa na poziom krótkoterminowych stóp procentowych na tym rynku.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→ patrz WI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b4c3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c3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ecnie operacje otwartego rynku przeprowadzane przez Narodowy Bank Polski polegają na emisji własnych papierów dłużnych (7-dniowych bonów pieniężnych), których minimalna rentowność jest równa stopie referencyjnej wyznaczonej przez Radę Polityki Pieniężne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7920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ęcej o stopach na rynku międzybankowy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3141360"/>
            <a:ext cx="460836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 algn="just">
              <a:lnSpc>
                <a:spcPct val="10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cc"/>
                </a:solidFill>
                <a:latin typeface="Times New Roman"/>
              </a:rPr>
              <a:t>O/N (</a:t>
            </a:r>
            <a:r>
              <a:rPr b="1" i="1" lang="pl-PL" sz="1200" spc="-1" strike="noStrike">
                <a:solidFill>
                  <a:srgbClr val="0000cc"/>
                </a:solidFill>
                <a:latin typeface="Times New Roman"/>
              </a:rPr>
              <a:t>over night</a:t>
            </a:r>
            <a:r>
              <a:rPr b="1" lang="pl-PL" sz="12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pl-PL" sz="1200" spc="-1" strike="noStrike">
                <a:solidFill>
                  <a:srgbClr val="737373"/>
                </a:solidFill>
                <a:latin typeface="Times New Roman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środki pożyczane na jeden dzień, na dziś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cc"/>
                </a:solidFill>
                <a:latin typeface="Times New Roman"/>
              </a:rPr>
              <a:t>T/N (</a:t>
            </a:r>
            <a:r>
              <a:rPr b="1" i="1" lang="pl-PL" sz="1200" spc="-1" strike="noStrike">
                <a:solidFill>
                  <a:srgbClr val="0000cc"/>
                </a:solidFill>
                <a:latin typeface="Times New Roman"/>
              </a:rPr>
              <a:t>tomorrow next</a:t>
            </a:r>
            <a:r>
              <a:rPr b="1" lang="pl-PL" sz="12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pl-PL" sz="1200" spc="-1" strike="noStrike">
                <a:solidFill>
                  <a:srgbClr val="737373"/>
                </a:solidFill>
                <a:latin typeface="Times New Roman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środki pożyczane na jeden dzień, od jutr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cc"/>
                </a:solidFill>
                <a:latin typeface="Times New Roman"/>
              </a:rPr>
              <a:t>SW (</a:t>
            </a:r>
            <a:r>
              <a:rPr b="1" i="1" lang="pl-PL" sz="1200" spc="-1" strike="noStrike">
                <a:solidFill>
                  <a:srgbClr val="0000cc"/>
                </a:solidFill>
                <a:latin typeface="Times New Roman"/>
              </a:rPr>
              <a:t>spot week</a:t>
            </a:r>
            <a:r>
              <a:rPr b="1" lang="pl-PL" sz="12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pl-PL" sz="1200" spc="-1" strike="noStrike">
                <a:solidFill>
                  <a:srgbClr val="737373"/>
                </a:solidFill>
                <a:latin typeface="Times New Roman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środki pożyczone na jeden tydzień od momentu dostawy, która następuje po dwóch dniach roboczy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oraz</a:t>
            </a:r>
            <a:r>
              <a:rPr b="1" lang="pl-PL" sz="1200" spc="-1" strike="noStrike">
                <a:solidFill>
                  <a:srgbClr val="737373"/>
                </a:solidFill>
                <a:latin typeface="Times New Roman"/>
              </a:rPr>
              <a:t> </a:t>
            </a:r>
            <a:r>
              <a:rPr b="1" lang="pl-PL" sz="1200" spc="-1" strike="noStrike">
                <a:solidFill>
                  <a:srgbClr val="0000cc"/>
                </a:solidFill>
                <a:latin typeface="Times New Roman"/>
              </a:rPr>
              <a:t>1M, 3M, 6M, 9M, 1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pl-PL" sz="1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pl-PL" sz="1200" spc="-1" strike="noStrike">
                <a:solidFill>
                  <a:srgbClr val="ff0000"/>
                </a:solidFill>
                <a:latin typeface="Times New Roman"/>
              </a:rPr>
              <a:t>Dane na 15.05.2007    </a:t>
            </a:r>
            <a:r>
              <a:rPr b="1" lang="pl-PL" sz="1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05740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 algn="just"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WIBID (</a:t>
            </a:r>
            <a:r>
              <a:rPr b="1" i="1" lang="pl-PL" sz="1400" spc="-1" strike="noStrike">
                <a:solidFill>
                  <a:srgbClr val="0000cc"/>
                </a:solidFill>
                <a:latin typeface="Times New Roman"/>
              </a:rPr>
              <a:t>warsaw interbank bid rate</a:t>
            </a: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pl-PL" sz="1400" spc="-1" strike="noStrike">
                <a:solidFill>
                  <a:srgbClr val="737373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- stopa procentowa (roczna) jaką banki zapłacą za środki przyjęte w depozyt od innych banków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, ustalana o godz. 11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Times New Roman"/>
              </a:rPr>
              <a:t>WIBOR </a:t>
            </a: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pl-PL" sz="1400" spc="-1" strike="noStrike">
                <a:solidFill>
                  <a:srgbClr val="0000cc"/>
                </a:solidFill>
                <a:latin typeface="Times New Roman"/>
              </a:rPr>
              <a:t>warsaw interbank offered rate</a:t>
            </a: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pl-PL" sz="1400" spc="-1" strike="noStrike">
                <a:solidFill>
                  <a:srgbClr val="737373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- stopa procentowa po jakiej banki udzielą pożyczek innym bankom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, ustalana o godz. 11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 algn="just">
              <a:lnSpc>
                <a:spcPct val="100000"/>
              </a:lnSpc>
              <a:spcBef>
                <a:spcPts val="349"/>
              </a:spcBef>
              <a:buClr>
                <a:srgbClr val="7373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53341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LIBOR (</a:t>
            </a:r>
            <a:r>
              <a:rPr b="1" i="1" lang="pl-PL" sz="1400" spc="-1" strike="noStrike">
                <a:solidFill>
                  <a:srgbClr val="0000cc"/>
                </a:solidFill>
                <a:latin typeface="Times New Roman"/>
              </a:rPr>
              <a:t>London Interbank Offered Rate</a:t>
            </a: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pl-PL" sz="1400" spc="-1" strike="noStrike">
                <a:solidFill>
                  <a:srgbClr val="737373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- stopa procentowa kredytów oferowanych na rynku międzybankowym w Londynie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rzez 4 główne banki (Bankers Trust, Bank of Tokyo, Barclays i National Westminster) - ustalana o godz. 11:00 czasu londyński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EURIBOR (</a:t>
            </a:r>
            <a:r>
              <a:rPr b="1" i="1" lang="pl-PL" sz="1400" spc="-1" strike="noStrike">
                <a:solidFill>
                  <a:srgbClr val="0000cc"/>
                </a:solidFill>
                <a:latin typeface="Times New Roman"/>
              </a:rPr>
              <a:t>Euro Interbank Offered Rate</a:t>
            </a: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pl-PL" sz="1400" spc="-1" strike="noStrike">
                <a:solidFill>
                  <a:srgbClr val="737373"/>
                </a:solidFill>
                <a:latin typeface="Times New Roman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stopa procentowa kredytów w strefie euro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oferowanych przez jeden bank innemu bankowi. Jest to średnie notowanie z 57 największych banków ze strefy euro - ustalane przez FBE (Federation Bancaire de L'Union Europeenne w Brukseli) o godz. 11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148360" y="2924280"/>
          <a:ext cx="2592360" cy="2189160"/>
        </p:xfrm>
        <a:graphic>
          <a:graphicData uri="http://schemas.openxmlformats.org/drawingml/2006/table">
            <a:tbl>
              <a:tblPr/>
              <a:tblGrid>
                <a:gridCol w="862920"/>
                <a:gridCol w="866160"/>
                <a:gridCol w="8632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WIB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WIB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6629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ęcej o stopach procentowych NBP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cje kredytowo-depozytow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2514600"/>
            <a:ext cx="86104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b4c3f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peracje kredytowo-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pozytowe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NBP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wadzone z bankami komercyjnymi z ich inicjatywy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redyt lombardow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katy terminowe banków w NBP (</a:t>
            </a:r>
            <a:r>
              <a:rPr b="1" lang="pl-PL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pozyt</a:t>
            </a:r>
            <a:r>
              <a:rPr b="1" lang="pl-PL" sz="1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koniec dnia)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2b4c3f"/>
                </a:solidFill>
                <a:latin typeface="Times New Roman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2b4c3f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K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edyt lombardowy</a:t>
            </a:r>
            <a:r>
              <a:rPr b="1" lang="pl-PL" sz="20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pl-PL" sz="1400" spc="-1" strike="noStrike">
                <a:solidFill>
                  <a:srgbClr val="2b4c3f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2b4c3f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BP udziela bankom komercyjnym kredytu lombardowego pod zastaw skarbowych papierów wartościowych. Kredyt ten umożliwia im pokrywanie krótkookresowych niedoborów płynności.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Kredyt jest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rocentowan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zgoednie ze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p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talan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zez Radę Polityki Pieniężnej </a:t>
            </a:r>
            <a:r>
              <a:rPr b="1" lang="pl-PL" sz="1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 stopę kredytu lombardowego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Depozyty: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NBP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eruje też bankom możliwość składania krótkookresowego (jednodniowego) depozytu w banku centralnym. Lokaty przyjmowane są do końca dnia operacyjnego, a zwrot kwoty depozytu wraz z należnymi odsetkami następuje w kolejnym dniu. Lokaty są oprocentowane według stopy ustalanej przez Radę Polityki Pieniężnej </a:t>
            </a:r>
            <a:r>
              <a:rPr b="1" lang="pl-PL" sz="1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opy depozytowej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cje kredytowo-depozytowe NBP wpływają na wysokość stóp procentowych na rynku pieniężnym,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ł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dz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ha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nia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jkrótszych, zwłaszcza jednodniowych, stóp rynku międzybankowego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pl-PL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órną granicę stóp procentowych na rynku pieniężnym stanowi oprocentowanie kredytu lombardowego</a:t>
            </a: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lną granicę – depozyt</a:t>
            </a:r>
            <a:r>
              <a:rPr b="1" lang="pl-PL" sz="1400" spc="-1" strike="noStrike">
                <a:solidFill>
                  <a:srgbClr val="ff0000"/>
                </a:solidFill>
                <a:latin typeface="Times New Roman"/>
              </a:rPr>
              <a:t>owa stopa procentowa</a:t>
            </a:r>
            <a:r>
              <a:rPr b="1" lang="pl-PL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BP</a:t>
            </a:r>
            <a:r>
              <a:rPr b="1" lang="pl-PL" sz="1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9280" y="1523880"/>
            <a:ext cx="77054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ęcej o rezerwach obowiązkowy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20500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ank centralny nakłada na banki komercyjne obowiązek utrzymywania rezerwy obowiązkowej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erwa ma na celu łagodzenie wpływu bieżących zmian płynności sektora bankowego na stopy procentowe na rynku międzybankowym. Służy również ograniczaniu nadpłynności banków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ezerwa obowiązkowa utrzymywana jest na rachunkach w NB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sokość stopy rezerwy obowiązkowej ustala Rada Polityki Pieniężnej. Od 31 października 2003r.</a:t>
            </a:r>
            <a:r>
              <a:rPr b="1" lang="en-US" sz="1400" spc="-1" strike="noStrike">
                <a:solidFill>
                  <a:srgbClr val="2b4c3f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topa rezerwy obowiązkowej wynosi 3,5% dla wszystkich rodzajów depozytów</a:t>
            </a:r>
            <a:r>
              <a:rPr b="1" lang="en-US" sz="1400" spc="-1" strike="noStrike">
                <a:solidFill>
                  <a:srgbClr val="2b4c3f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b4c3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c3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Środki rezerwy obowiązkowej od 1 maja 2004r. są oprocentowane, wcześniej środki te były nieoprocentow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c3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p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erwy obowiązkowej oddziałuje n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żliwośc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eacji pieniądz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przez bank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zrost stopy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ezerw obowiązkow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ych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granicza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możliwości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reacji pieniądza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przez ban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obniżenie stopy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ezerw obowiązkow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ych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zwiększa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możliwości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reacji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kredytu</a:t>
            </a:r>
            <a:r>
              <a:rPr b="1" lang="en-US" sz="1400" spc="-1" strike="noStrike">
                <a:solidFill>
                  <a:srgbClr val="2b4c3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187280" y="1989000"/>
          <a:ext cx="6753240" cy="38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89000"/>
                    <a:ext cx="675324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1523880"/>
            <a:ext cx="77403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dstawowe stopy procentowe NBP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3:03:01Z</dcterms:created>
  <dc:creator>Irena Woroniecka</dc:creator>
  <dc:description/>
  <dc:language>en-US</dc:language>
  <cp:lastModifiedBy>Irena Woroniecka</cp:lastModifiedBy>
  <dcterms:modified xsi:type="dcterms:W3CDTF">2007-05-16T18:53:53Z</dcterms:modified>
  <cp:revision>446</cp:revision>
  <dc:subject/>
  <dc:title>POLITYKA STÓP PROCENTOWYCH. CEL INFLACYJNY I STABILIZACYJNY. </dc:title>
</cp:coreProperties>
</file>