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576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5660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576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5660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333360"/>
            <a:ext cx="54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rena Woronieck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KROEKONOMIA II   wykład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dział Informatycznych Technik Zarządzani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ższa Szkoła Informatyki Stosowanej i Zarządzania WIT</a:t>
            </a:r>
            <a:br>
              <a:rPr sz="14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8436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2120" y="2133720"/>
            <a:ext cx="7694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kład 8</a:t>
            </a:r>
            <a:br>
              <a:rPr sz="2800"/>
            </a:b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REZENTACJA BADAŃ DOTYCZĄCYCH POLITYKI MONETARNEJ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1628640"/>
            <a:ext cx="6481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zukiwanie rozwiązania problem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Zastosowanie metod polecanych w przypadku występowania autokorelacji składnika losowego, np. zwykłej i uogólnionej metody Cochrane-Orcutta, Hildretha-Lu, itp. - poprawiło statystyki Durbina Watsona ( rozwiązało kwestię autokorelacji składnika losowego ), ale pojawił się nowy problem – nieistotne statystycznie parametr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Wprowadzenie opóźnionej zmiennej objaśnianej – 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model autoregresyjny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– skutecznie pozwoliło rozwiązać powyższe problemy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rzeanalizowano i poddano estymacji szereg modeli z różnymi wariantami opóźnień dla zmiennych objaśniających (od 1 do 6 miesięcy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We wszystkich wariantach estymacji statystyczna weryfikacja modelu potwierdza dobre dopasowanie modelu do danych empirycznych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W różnych wariantach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wartości estymatorów parametru </a:t>
            </a:r>
            <a:r>
              <a:rPr b="1" i="1" lang="pl-PL" sz="2000" spc="-1" strike="noStrike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  wahają się nieznacz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– mieszczą się w przedziale: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0,70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0,72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la porównania, 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poprzednie wyniki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0,73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0,75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777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e wyniki - najdokładniejsze oszacowania </a:t>
            </a:r>
            <a:br>
              <a:rPr sz="2800"/>
            </a:b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późniona reakcja stóp procentowych na stan koniunktury gospodarczej - opóźnienie rzędu 2-3 miesię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763272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Najlepsze wynik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biorąc pod uwagę kryterium najmniejszej sumy kwadratów odchyleń teoretycznych wartości zmiennej objaśnianej od wartości empirycznych,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uzyskano dla następujących wariantów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w których jako zmienne objaśniające przyjęto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óźnienia rozłożone ze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średnią z 2 ostatnich miesięcy dla inflacji i średnią z 3 ostatnich miesięcy dla stopy zatrudnieni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model 7, SSE = 0,010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średnie z 2 ostatnich miesięcy jednakowo dla inflacji i stopy zatrudnieni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model 5, SSE = 0,0105)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2-miesięczne opóźnienie dla inflacji i 3-miesięczne opóźnienie dla stopy zatrudnieni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model 4, SSE = 0,0105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624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niki estymacji metodą Kmen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now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2209680"/>
          <a:ext cx="66038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6603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04000" y="4724280"/>
            <a:ext cx="201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rak autokorelacji składnika los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1844640"/>
            <a:ext cx="201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óźnienia rozłożone dla zmiennych objaśniającyc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9640" y="2852640"/>
            <a:ext cx="223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średnia z 2 ostatnich miesięcy dla inflacj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średnia z 3 ostatnich miesięcy dla stopy zatrudnie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1484280"/>
            <a:ext cx="7344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niki estymacji metodą Kment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n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riant z opóźnioną zmienną objaśnianą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óźnienia rozłożone dla zmiennych objaśniających: średnia z 2 ostatnich miesięcy dla inflacji, średnia z 3 ostatnich miesięcy dla stopy zatrudnie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8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14400" y="2666880"/>
          <a:ext cx="6400800" cy="37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666880"/>
                    <a:ext cx="640080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7993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pretacja powyższego autoregresyjnego modelu w aspekcie reguł ustalania stóp procentowych przez bank centralny jest następująca.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ecyzje o wysokości stóp procentowych zależą od ich poziomu w poprzednim okresie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az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d zmiany nastawienia polityki monetarnej na bardziej lub mniej restrykcyjną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odwyższenie lub obniżenie stóp procentowych)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d wpływem danych charakteryzujących bieżący stan gospodark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z jednej strony inflacji, z drugiej – koniunktury odzwierciedlanej przez stopę zatrudnienia. Przyjmując, że bank centralny w swoich decyzjach uwzględnia dane nie o bieżącym stanie gospodarki, lecz pochodzące z nieodległej przeszłości, sensowna wydaje się również analiza modeli z uwzględnieniem opóźnionych zmiennych objaśniających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628640"/>
            <a:ext cx="77914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modyfikowana interpretacja wynikó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modelu autoregres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niosk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2133720"/>
            <a:ext cx="79246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siąganie i utrzymywanie niskiej inflacji stanowiło wyraźny priorytet w polityce pieniężnej.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Współczynnik preferencji, charakteryzujący wagę przypisywaną przez bank centralny celowi inflacyjnemu, kształtuje się na poziomie ok. 0,7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Wyniki wskazują na znacznie, bo ok. 2,5-krotnie wyższą wagę przypisywaną celowi inflacyjnemu w porównaniu z celem stabilizacyjny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zyskany wynik nie stoi w sprzeczności z ustawowo określonymi celami polityki monetarnej NBP. Zgodnie z ustawą,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„podstawowym celem polityki pieniężnej NBP jest utrzymanie stabilnego poziomu cen przy jednoczesnym wspieraniu polityki gospodarczej, o ile nie ogranicza to podstawowego celu NBP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Aczkolwiek, w odróżnieniu od celu inflacyjnego, cel stabilizacyjny w polityce monetarnej ma wyraźnie znaczenie drugoplanowe, nie oznacza to, że kwestie stabilizacji koniunktury nie są w ogóle brane pod uwagę w decyzjach dotyczących polityki stóp procentow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tyka stóp procentowych reaguje z opóźnieniem na stan gospodarki.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Opóźnienie to wynosi ok. 2-3 miesięc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jest nieco krótsze w stosunku do inflacji, nieco dłuższe w odniesieniu do koniunktury mierzonej stopą bezrobocia/zatrudni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773000"/>
            <a:ext cx="7705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 między bankiem centralnym a rząd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781360"/>
            <a:ext cx="849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rzedmiotem  bada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jest odpowiedź na pyt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o jakich strategii dążyć będą władze fiskalne i monetarne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aliza równowag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gr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iezależność banku centralnego czy koordynacja polityki monetarnej i fiskalnej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aliza Pareto-optymalnośc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ozwiązań w gr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2349000"/>
            <a:ext cx="809928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Przesłank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zastosowania podejścia z zakresu teorii gier do przedstawienia problemu decyzyjnego dotyczącego wyboru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policy mix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, w tym polityki monetarnej i fiskalnej, w postaci gry między bankiem centralnym a rząd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wcześniejsze badania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– wyniki wcześniejszych badań wskazują na celowość analizy powyższej sytuacji decyzyjnej we wzajemnym uwarunkowani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cel badawczy</a:t>
            </a:r>
            <a:r>
              <a:rPr b="1" lang="pl-P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– analiza ważnego problemu:</a:t>
            </a:r>
            <a:r>
              <a:rPr b="1" lang="pl-P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niezależność banku centralnego a koordynacja polityki monetarnej i fiskalnej.</a:t>
            </a:r>
            <a:r>
              <a:rPr b="1" lang="pl-P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tóre podejście jest bardziej efektywne z ekonomicznego punktu widzenia – zbadanie 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Pareto-optymalności rozwiązań</a:t>
            </a:r>
            <a:r>
              <a:rPr b="1" lang="pl-P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zasadnienie tematyk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2276280"/>
            <a:ext cx="81342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nteresujące jest,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na ile stan koniunktury brany jest pod uwagę przez BC bezpośrednio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, jako jeden z równorzędnych lub drugoplanowych celów polityki pieniężnej, 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a na ile stanowi on wpływ pośredni, będący wynikiem wzajemnych powiązań między gospodarką a polityką monetarną i polityką fiskalną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. Bank centralny ustalając wysokość stóp procentowych, podejmuje decyzje w określonych warunkach makroekonomicznych, które mogą sprzyjać utrzymywaniu niskiej inflacji, lub odwrotnie, znacznie je utrudniać. Na aktualny stan gospodarki ma wpływ m.in. to, w jaki sposób prowadzona była dotychczas polityka makroekonomiczna, w tym nie tylko monetarna pozostająca w gestii banku centralnego, ale i budżetowa, za którą odpowiedzialny jest rzą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Celowa wydaje się zatem analiza decyzji makroekonomicznych podejmowanych w ramach polityki monetarnej i fiskalnej w ich wzajemnym uwarunkowaniu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. Dlatego proponuje się przedstawienie sytuacji decyzyjnej w zakresie wyboru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policy mix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jako gry między bankiem centralnym i rząd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000" y="1628640"/>
            <a:ext cx="7561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laczego zastosowanie teorii gi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2204640"/>
            <a:ext cx="82836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ażdy z graczy podejmuje decyzje samodzielnie biorąc pod uwagę prawdopodobną reakcję drugiego gracz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trategie rządow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znaczają strategie polityki fiskalnej, różniące się stopniem restrykcyjności polityki. Jako wyznacznik restrykcyjności polityki fiskalnej przyjęto poziom deficytu budżetowego w relacji do PKB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trategie banku centralneg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znaczają strategie polityki monetarnej, różniące się stopniem restrykcyjności polityki. Jako miernik stopnia restrykcyjności polityki pieniężnej przyjęto wysokość realnej stopy procentowej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ypłatą banku centralneg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w tej grze jest poziom inflacji, natomiast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ypłatą rządu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wybrany miernik koniunktury (tempo wzrostu  PKB). Bank centralny wybierając pomiędzy różnymi strategiami polityki monetarnej: od najmniej do najbardziej restrykcyjnej dąży do uzyskania jak najniższej inflacji. Rząd z kolei, mając do wyboru szereg różnych wariantów polityki budżetowej: od polityki najbardziej restrykcyjnej aż do najbardziej ekspansywnej, kieruje się maksymalizacją tempa wzrostu gospodarczego (bądź minimalizacją stopy bezrobocia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1628640"/>
            <a:ext cx="7696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co toczy się gra między BC a rząde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2743200"/>
            <a:ext cx="771552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dentyfikacja preferencji decyzyjnych banku centralneg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 kształtowaniu polityki monetarnej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 politykę makroekonomiczną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iędzy bankiem centralnym a rzą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960" y="1981080"/>
            <a:ext cx="769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484280"/>
            <a:ext cx="82947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ica wypłat - gra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względniająca dwie jakościowo różne strategie polityki fiskalnej i pieniężne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36720" y="2362320"/>
          <a:ext cx="7269120" cy="3949560"/>
        </p:xfrm>
        <a:graphic>
          <a:graphicData uri="http://schemas.openxmlformats.org/drawingml/2006/table">
            <a:tbl>
              <a:tblPr/>
              <a:tblGrid>
                <a:gridCol w="800280"/>
                <a:gridCol w="728640"/>
                <a:gridCol w="1434960"/>
                <a:gridCol w="1435320"/>
                <a:gridCol w="1434960"/>
                <a:gridCol w="1434960"/>
              </a:tblGrid>
              <a:tr h="61884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pł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referencje w grze według Blinde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41360" y="2489040"/>
          <a:ext cx="492300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1360" y="2489040"/>
                    <a:ext cx="4923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5300640"/>
            <a:ext cx="71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Źródł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Blinder A S. (1983). Issues in the Coordination of Monetary and Fiscal Polici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: Monetary Policy in the 1980s, NBER Working Papers, No W0982, s. 2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82090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yniki i wypłaty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w grze według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nett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Loayz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1480" y="2425680"/>
          <a:ext cx="6197400" cy="34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425680"/>
                    <a:ext cx="619740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900000" y="5950080"/>
            <a:ext cx="7704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Źródło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: Bennett, N. Loayza, H. (2001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cy Biases when the Monetary and Fiscal Authorities have Different Objectives, Central Bank of Chile Working Papers, No 66, s.3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691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łoże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8000" y="3357720"/>
                <a:ext cx="865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859280" y="4724280"/>
                <a:ext cx="863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403280" y="3357720"/>
                <a:ext cx="1656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227640" y="3357720"/>
                <a:ext cx="9572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11280" y="234936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zważone zostały dwa warian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ariant A</a:t>
            </a: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w którym zakłada się, ż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429000"/>
            <a:ext cx="50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3429000"/>
            <a:ext cx="50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4076640"/>
            <a:ext cx="734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ariant B</a:t>
            </a: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w którym zakłada się, ż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76360" y="4653000"/>
                <a:ext cx="16621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55640" y="4724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4797360"/>
            <a:ext cx="50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227640" y="4724280"/>
                <a:ext cx="8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0920" y="5516640"/>
            <a:ext cx="734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 krótkim okresie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wariant 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ydaje się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bardziej realistyczni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odzwierciedlać badane interakcje między polityką pieniężną a budżetow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216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iant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00000" y="2565360"/>
          <a:ext cx="7269120" cy="3949920"/>
        </p:xfrm>
        <a:graphic>
          <a:graphicData uri="http://schemas.openxmlformats.org/drawingml/2006/table">
            <a:tbl>
              <a:tblPr/>
              <a:tblGrid>
                <a:gridCol w="800280"/>
                <a:gridCol w="728640"/>
                <a:gridCol w="1434960"/>
                <a:gridCol w="1435320"/>
                <a:gridCol w="1434960"/>
                <a:gridCol w="1434960"/>
              </a:tblGrid>
              <a:tr h="61920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pł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1828800"/>
                <a:ext cx="2489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40360" y="3933720"/>
                <a:ext cx="8632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0360" y="4581360"/>
                <a:ext cx="934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08720" y="5877000"/>
                <a:ext cx="934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948360" y="5300640"/>
                <a:ext cx="865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24360" y="5300640"/>
                <a:ext cx="1295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484360" y="5924520"/>
                <a:ext cx="129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84360" y="1700280"/>
                <a:ext cx="251928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637000"/>
          <a:ext cx="4534920" cy="3744360"/>
        </p:xfrm>
        <a:graphic>
          <a:graphicData uri="http://schemas.openxmlformats.org/drawingml/2006/table">
            <a:tbl>
              <a:tblPr/>
              <a:tblGrid>
                <a:gridCol w="892440"/>
                <a:gridCol w="887400"/>
                <a:gridCol w="689400"/>
                <a:gridCol w="689040"/>
                <a:gridCol w="687240"/>
                <a:gridCol w="689400"/>
              </a:tblGrid>
              <a:tr h="60732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pł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964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+</a:t>
                      </a:r>
                      <a:r>
                        <a:rPr b="1" i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+</a:t>
                      </a:r>
                      <a:r>
                        <a:rPr b="1" i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i="1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+</a:t>
                      </a:r>
                      <a:r>
                        <a:rPr b="1" i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i="1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+</a:t>
                      </a:r>
                      <a:r>
                        <a:rPr b="1" i="1" lang="el-GR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pl-PL" sz="1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+</a:t>
                      </a:r>
                      <a:r>
                        <a:rPr b="1" i="1" lang="el-GR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i="1" lang="pl-PL" sz="1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r>
                        <a:rPr b="1" i="1" lang="pl-PL" sz="1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+</a:t>
                      </a:r>
                      <a:r>
                        <a:rPr b="1" i="1" lang="el-GR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i="1" lang="pl-PL" sz="1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367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egie dominują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iant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628640"/>
            <a:ext cx="345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ząd ma strategię dominującą , która jest optymalna niezależnie od tego, jaką strategię wybierze drugi gracz – jest nią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kspansywna polityka fiskaln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 centralny również ma strategię dominującą, optymalną niezależnie od decyzji rządu – jest nią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trykcyjna polityka monetarn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 równowagi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najduje się w prawym dolnym rogu. Jest to nie tylko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ównowaga Nas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le i równowaga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yznaczana przez strategie dominują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784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ównowaga Nash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analizowanej grze jest wyznaczona przez strategie dominujące i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rowadzi do wyboru restrykcyjnej polityki monetarnej i ekspansywnej polityki fiskalne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yższy stan równowagi odpowiada rzeczywistej sytuacji, jaka miała miejsce w ostatnich latach w Polsce, gdy w odpowiedzi na zbyt ekspansywną politykę fiskalną i wysoki poziom deficytu budżetowego, bank centralny prowadził politykę restrykcyjną utrzymując realne stopy procentowe na wysokim poziomi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56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ównowaga w grze – wariant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Interesujące jest pytanie czy równowag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, wyznaczona przez strategie dominujące obu graczy: rządu i banku centralnego,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jest Pareto-optymaln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zy też nie. W tym aspekcie szczególnie ważne jest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równanie dwóch wariantów rozwiąza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trategicznych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nktu równowagi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dzwierciedlającego strategie dominujące, tzn. ekspansywną politykę fiskalną charakteryzującą się wysokim deficytem budżetowym i restrykcyjną politykę pieniężną, charakteryzującą się wysokim poziomem realnych stóp procentowy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az alternatywnego rozwiązania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wyboru przez rząd polityki niskiego deficytu budżetowego i polityki niskich stóp procentowych w ramach polityki monetarnej banku centralnego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 tym celu należy rozważyć kilka przypadkó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iza paretooptymalności rozwiązań – wariant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2421000"/>
          <a:ext cx="4318920" cy="3684600"/>
        </p:xfrm>
        <a:graphic>
          <a:graphicData uri="http://schemas.openxmlformats.org/drawingml/2006/table">
            <a:tbl>
              <a:tblPr/>
              <a:tblGrid>
                <a:gridCol w="849960"/>
                <a:gridCol w="845280"/>
                <a:gridCol w="656280"/>
                <a:gridCol w="656280"/>
                <a:gridCol w="654840"/>
                <a:gridCol w="656280"/>
              </a:tblGrid>
              <a:tr h="60480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24360" y="1989000"/>
                <a:ext cx="2016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724360" y="3141720"/>
                <a:ext cx="2087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5364000" y="4437000"/>
            <a:ext cx="32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ównowaga jest korzystniejsza zarówno z punktu widzenia rządu jak i banku centraln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421000"/>
          <a:ext cx="4174560" cy="3733200"/>
        </p:xfrm>
        <a:graphic>
          <a:graphicData uri="http://schemas.openxmlformats.org/drawingml/2006/table">
            <a:tbl>
              <a:tblPr/>
              <a:tblGrid>
                <a:gridCol w="821520"/>
                <a:gridCol w="817200"/>
                <a:gridCol w="634320"/>
                <a:gridCol w="634320"/>
                <a:gridCol w="632520"/>
                <a:gridCol w="634680"/>
              </a:tblGrid>
              <a:tr h="60552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48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51640" y="1844640"/>
                <a:ext cx="2016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651640" y="2997360"/>
                <a:ext cx="2087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292720" y="4149720"/>
            <a:ext cx="3240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ównowaga jest korzystniejsza z punktu widzenia rządu, jednak gorsza dla banku centraln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0920" y="3141360"/>
            <a:ext cx="561636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zedmiotem  bada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st odpowiedź na pytani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429264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inflacy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53737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z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jak duże znaczenie przypisywane jest każdemu z nic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716280"/>
            <a:ext cx="754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z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polityce monetarne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B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względniane są oba ce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797360"/>
            <a:ext cx="7620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i stabiliz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10920" y="162864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yfikacja preferencji decyzyjnych banku centralnego w kształtowaniu polityki monetarnej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4360" y="2421000"/>
          <a:ext cx="4247640" cy="3733200"/>
        </p:xfrm>
        <a:graphic>
          <a:graphicData uri="http://schemas.openxmlformats.org/drawingml/2006/table">
            <a:tbl>
              <a:tblPr/>
              <a:tblGrid>
                <a:gridCol w="835920"/>
                <a:gridCol w="831240"/>
                <a:gridCol w="645480"/>
                <a:gridCol w="645480"/>
                <a:gridCol w="644040"/>
                <a:gridCol w="645480"/>
              </a:tblGrid>
              <a:tr h="60552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48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651640" y="1844640"/>
                <a:ext cx="2016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651640" y="2997360"/>
                <a:ext cx="2087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292720" y="4221000"/>
            <a:ext cx="3240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ównowaga jest korzystniejsza z punktu widzenia banku centralnego, jednak gorsza dla rzą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2421000"/>
          <a:ext cx="4392360" cy="3684600"/>
        </p:xfrm>
        <a:graphic>
          <a:graphicData uri="http://schemas.openxmlformats.org/drawingml/2006/table">
            <a:tbl>
              <a:tblPr/>
              <a:tblGrid>
                <a:gridCol w="865080"/>
                <a:gridCol w="858960"/>
                <a:gridCol w="668160"/>
                <a:gridCol w="666720"/>
                <a:gridCol w="666720"/>
                <a:gridCol w="666720"/>
              </a:tblGrid>
              <a:tr h="60480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0000"/>
                      </a:solidFill>
                    </a:lnR>
                    <a:lnT>
                      <a:noFill/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24360" y="1844640"/>
                <a:ext cx="2016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724360" y="2997360"/>
                <a:ext cx="2087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508720" y="4221000"/>
            <a:ext cx="3095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nie jest Pareto-optymalny.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ównowaga jest mniej korzystna dla obu graczy od rozwiązania alternatywnego (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155700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 czego zależy, czy równowaga jest Pareto-optymaln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349360"/>
            <a:ext cx="80643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 pracy sformułowano warunki, od jakich zależy czy równowaga Nasha (w analizowanym problemie wyznaczana przez strategie dominujące) stanowi jednocześnie rozwiązanie Pareto-optymal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areto-optymalność rozwiązań zależy od tego, która polityka: monetarna czy fiskalna skuteczniej wpływa na wzrost gospodarczy oraz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która z nich efektywniej oddziałuje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na inflację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 także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który instrument podlega silniejszym zmiano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stopa procentowa (instrument polityki pieniężnej) czy deficyt budżetowy (instrument polityki fiskalnej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19280" y="5157720"/>
                <a:ext cx="24321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422600" y="5157720"/>
                <a:ext cx="2514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6984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A4 – dylemat więź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133720"/>
            <a:ext cx="8208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W przypadku A4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stan równowagi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charakteryzuje się gorszymi, w porównaniu z parą strategii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, wskaźnikami gospodarczymi (niższy wzrost PKB i wyższa inflacja). W tym przypadku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wybór strategii dominujących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rzez oba podmioty decydujące o kształcie polityki makroekonomicznej 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nie oznacza rozwiązania Pareto-optymalnego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Przypadek ten odzwierciedla sytuację znaną w literaturze jako dylemat więźni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 kiedy występuje konflikt między racjonalnością indywidualną w postaci kryterium dominacji a racjonalnością grupową w postaci kryterium Pareto. Podmioty dbające o swoje indywidualne interesy doprowadzają do wyniku niekorzystnego dla wszystkich, w tym i dla nich sam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cc"/>
                </a:solidFill>
                <a:latin typeface="Times New Roman"/>
              </a:rPr>
              <a:t>Blinder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, zakładając z góry preferencje, wskazuje na możliwość wystąpienia jedynie powyższego przypadku, wyciągając wniosek o korzyściach koordynacji w opozycji do niezależności banku centraln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69850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dsumowując (wariant A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205000"/>
            <a:ext cx="856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zeprowadzono analizę Pareto-optymalności rozwiązań dla gry uwzględniającej dwie  jakościowo różne strategie polityki fiskalnej i pieniężnej, wskazując na możliwość zaistnienia czterech różnych przypadków, z których trzy dotyczą sytuacji, gdy równowaga Nasha (w analizowanym problemie wyznaczana przez strategie dominujące) stanowi jednocześnie rozwiązanie Pareto-optymalne. Oznacza to, że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w tych przypadkach samodzielność banku centralnego w kształtowaniu polityki monetarnej prowadzi do efektywnych rozwiąza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Jedynie jed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z analizowanych przypadków wskazuje na występowanie znanego w literaturze przypadku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dylematu więźni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gdy występuje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konflikt między racjonalnością indywidualną w postaci kryterium dominacji a racjonalnością grupową w postaci kryterium Pare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Taka sytuacji ma miejsce, gdy polityka monetarna oddziałuje skuteczniej na wzrost gospodarczy niż na inflację i przeciwnie, polityka fiskalna wpływa efektywniej na inflację niż na wzrost PKB i wskazuje na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konieczność koordynacji polityki banku centralnego i rząd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216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iant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00000" y="2565360"/>
          <a:ext cx="7269120" cy="3949920"/>
        </p:xfrm>
        <a:graphic>
          <a:graphicData uri="http://schemas.openxmlformats.org/drawingml/2006/table">
            <a:tbl>
              <a:tblPr/>
              <a:tblGrid>
                <a:gridCol w="800280"/>
                <a:gridCol w="728640"/>
                <a:gridCol w="1434960"/>
                <a:gridCol w="1435320"/>
                <a:gridCol w="1434960"/>
                <a:gridCol w="1434960"/>
              </a:tblGrid>
              <a:tr h="61920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pł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410080" y="1828800"/>
                <a:ext cx="2489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40360" y="3933720"/>
                <a:ext cx="8632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948360" y="5300640"/>
                <a:ext cx="865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924360" y="5300640"/>
                <a:ext cx="1295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43280" y="5924520"/>
                <a:ext cx="792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70040" y="1701720"/>
                <a:ext cx="23464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4581360"/>
                <a:ext cx="1366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b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570640" y="4551480"/>
                <a:ext cx="946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2637000"/>
          <a:ext cx="4535280" cy="3744720"/>
        </p:xfrm>
        <a:graphic>
          <a:graphicData uri="http://schemas.openxmlformats.org/drawingml/2006/table">
            <a:tbl>
              <a:tblPr/>
              <a:tblGrid>
                <a:gridCol w="892080"/>
                <a:gridCol w="887400"/>
                <a:gridCol w="690480"/>
                <a:gridCol w="689040"/>
                <a:gridCol w="687240"/>
                <a:gridCol w="689040"/>
              </a:tblGrid>
              <a:tr h="60768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pł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+</a:t>
                      </a:r>
                      <a:r>
                        <a:rPr b="1" i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+</a:t>
                      </a:r>
                      <a:r>
                        <a:rPr b="1" i="1" lang="el-GR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i="1" lang="pl-PL" sz="1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r>
                        <a:rPr b="1" i="1" lang="pl-PL" sz="14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+</a:t>
                      </a:r>
                      <a:r>
                        <a:rPr b="1" i="1" lang="el-GR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i="1" lang="pl-PL" sz="1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+</a:t>
                      </a:r>
                      <a:r>
                        <a:rPr b="1" i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i="1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+</a:t>
                      </a:r>
                      <a:r>
                        <a:rPr b="1" i="1" lang="el-GR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pl-PL" sz="1400" spc="-1" strike="noStrike" baseline="-25000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+</a:t>
                      </a:r>
                      <a:r>
                        <a:rPr b="1" i="1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i="1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367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egie dominują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iant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1628640"/>
            <a:ext cx="345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ząd ma strategię dominującą , która jest optymalna niezależnie od tego, jaką strategię wybierze drugi gracz – jest nią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trykcyjna polityka fiskaln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 centralny również ma strategię dominującą, optymalną niezależnie od decyzji rządu – jest nią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trykcyjna polityka monetarn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 równowagi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najduje się w prawym górnym rogu. Jest to nie tylko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ównowaga Nas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le i równowaga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yznaczana przez strategie dominują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997360"/>
            <a:ext cx="799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dobnie jak w wariancie A, należy rozważyć kilka przypadkó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4000" y="1773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iza paretooptymalności rozwiązań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wariant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B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4360" y="2421000"/>
          <a:ext cx="4319280" cy="3684600"/>
        </p:xfrm>
        <a:graphic>
          <a:graphicData uri="http://schemas.openxmlformats.org/drawingml/2006/table">
            <a:tbl>
              <a:tblPr/>
              <a:tblGrid>
                <a:gridCol w="850680"/>
                <a:gridCol w="844560"/>
                <a:gridCol w="657360"/>
                <a:gridCol w="655560"/>
                <a:gridCol w="654120"/>
                <a:gridCol w="657000"/>
              </a:tblGrid>
              <a:tr h="60480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724360" y="2109960"/>
                <a:ext cx="2303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b</m:t>
                    </m:r>
                    <m:r>
                      <m:t xml:space="preserve">)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24360" y="3141720"/>
                <a:ext cx="2087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64000" y="4437000"/>
            <a:ext cx="32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ównowaga jest najlepszym rozwiązaniem z punktu widzenia banku centralnego, mniej korzystnym dla rządu w porównaniu z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B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4360" y="2421000"/>
          <a:ext cx="4319280" cy="3684600"/>
        </p:xfrm>
        <a:graphic>
          <a:graphicData uri="http://schemas.openxmlformats.org/drawingml/2006/table">
            <a:tbl>
              <a:tblPr/>
              <a:tblGrid>
                <a:gridCol w="850680"/>
                <a:gridCol w="844560"/>
                <a:gridCol w="657360"/>
                <a:gridCol w="655560"/>
                <a:gridCol w="654120"/>
                <a:gridCol w="657000"/>
              </a:tblGrid>
              <a:tr h="60480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724360" y="2109960"/>
                <a:ext cx="2303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b</m:t>
                    </m:r>
                    <m:r>
                      <m:t xml:space="preserve">)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76920" y="3141720"/>
                <a:ext cx="1981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364000" y="4221000"/>
            <a:ext cx="338472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ównowaga jest najlepszym rozwiązaniem z punktu widzenia banku centralnego, mniej korzystnym dla rządu w porównaniu z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31280" y="2895480"/>
            <a:ext cx="827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minalna stopa procentowa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inflacja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stopa zatrudnienia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2781360"/>
                <a:ext cx="619308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ρ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ρ</m:t>
                        </m:r>
                      </m:sup>
                    </m:sSubSup>
                    <m:r>
                      <m:t xml:space="preserve"> 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ν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stosowanie funkcji CES</a:t>
            </a:r>
            <a:br>
              <a:rPr sz="2800"/>
            </a:b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o oszacowania wag przypisywanych przez bank centralny celowi inflacyjnemu i stabilizacyjnem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181480"/>
            <a:ext cx="79250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arametr udziału </a:t>
            </a:r>
            <a:r>
              <a:rPr b="0" i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- charakteryzuje wagę przypisywaną przez BC celowi inflacyjnem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arametr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1-</a:t>
            </a:r>
            <a:r>
              <a:rPr b="0" i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- znaczenie przywiązywane do celu stabiliz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B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4360" y="2421000"/>
          <a:ext cx="4319280" cy="3684600"/>
        </p:xfrm>
        <a:graphic>
          <a:graphicData uri="http://schemas.openxmlformats.org/drawingml/2006/table">
            <a:tbl>
              <a:tblPr/>
              <a:tblGrid>
                <a:gridCol w="850680"/>
                <a:gridCol w="844560"/>
                <a:gridCol w="657360"/>
                <a:gridCol w="655560"/>
                <a:gridCol w="654120"/>
                <a:gridCol w="657000"/>
              </a:tblGrid>
              <a:tr h="60480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24360" y="2109960"/>
                <a:ext cx="2303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b</m:t>
                    </m:r>
                    <m:r>
                      <m:t xml:space="preserve">)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776920" y="3141720"/>
                <a:ext cx="1981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64000" y="4149720"/>
            <a:ext cx="345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ównowaga jest najlepszym rozwiązaniem z punktu widzenia banku centralnego, mniej korzystnym dla rządu w porównaniu z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B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84360" y="2421000"/>
          <a:ext cx="4319280" cy="3684600"/>
        </p:xfrm>
        <a:graphic>
          <a:graphicData uri="http://schemas.openxmlformats.org/drawingml/2006/table">
            <a:tbl>
              <a:tblPr/>
              <a:tblGrid>
                <a:gridCol w="850680"/>
                <a:gridCol w="844560"/>
                <a:gridCol w="657360"/>
                <a:gridCol w="655560"/>
                <a:gridCol w="654120"/>
                <a:gridCol w="657000"/>
              </a:tblGrid>
              <a:tr h="60480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24360" y="2109960"/>
                <a:ext cx="2303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b</m:t>
                    </m:r>
                    <m:r>
                      <m:t xml:space="preserve">)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776920" y="3141720"/>
                <a:ext cx="1981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5364000" y="4221000"/>
            <a:ext cx="3240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br>
              <a:rPr sz="1800"/>
            </a:br>
            <a:br>
              <a:rPr sz="800"/>
            </a:b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ównowaga jest najlepszym rozwiązaniem z punktu widzenia banku centralnego, mniej korzystnym dla rządu w porównaniu z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770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to-optymalność rozwiązań przy innej funkcji wypłat - przypadek B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4360" y="2924280"/>
          <a:ext cx="2950920" cy="2520720"/>
        </p:xfrm>
        <a:graphic>
          <a:graphicData uri="http://schemas.openxmlformats.org/drawingml/2006/table">
            <a:tbl>
              <a:tblPr/>
              <a:tblGrid>
                <a:gridCol w="581040"/>
                <a:gridCol w="577080"/>
                <a:gridCol w="448920"/>
                <a:gridCol w="448200"/>
                <a:gridCol w="446760"/>
                <a:gridCol w="448920"/>
              </a:tblGrid>
              <a:tr h="41364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rowSpan="4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2492280"/>
            <a:ext cx="43196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esujący jest np.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rzypadek B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przy założeniu czystych wypłat: inflacja dla banku centralnego, tempo wzrostu PKB dla rządu, równowaga jest oczywiście Pareto-optymalna. </a:t>
            </a:r>
            <a:br>
              <a:rPr sz="1400"/>
            </a:br>
            <a:br>
              <a:rPr sz="8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dnak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gdyby jako funkcję wypłat przyjąć średnią ważoną z wagami przypisywanymi przez obu graczy odpowiednio celowi inflacyjnemu i koniunkturalnemu, t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rzy odpowiednim doborze wag istniałaby możliwość, że stan równowagi odzwierciedlający wybór kombinacji obu polityk o charakterze restrykcyjnym nie oznaczałby decyzji Pareto-optymalnej.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rzy niesymetrycznych wagach preferujących cel koniunkturalny, lepszym rozwiązaniem może okazać się kombinacja restrykcyjnej polityki fiskalnej i ekspansywnej monetarnej (lewy górny róg tablicy wypłat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69850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dsumowując (wariant B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2205000"/>
            <a:ext cx="85694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rzy przyjęciu odmiennych założe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otyczących uwarunkowań koniunktury gospodarczej, przede wszystkim wpływu deficytu budżetowego na wzrost PKB,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ównowaga Nasha w grze jest również wyznaczana przez strategie dominujące, ale prowadzi do wyboru obu restrykcyjnych polityk: pieniężnej i fiskalne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ównowaga ta stanowi rozwiązanie Pareto-optymal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e wszystkich czterech analizowanych przypadkach (B1-B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zkolwiek,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gdyby jako funkcję wypłat przyjąć średnią ważoną z wagami przypisywanymi przez obu graczy odpowiednio celowi inflacyjnemu i koniunkturalnemu, t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rzy odpowiednim doborze wag istniałaby możliwość, że stan równowagi odzwierciedlający wybór kombinacji obu polityk o charakterze restrykcyjnym nie oznaczałby decyzji Pareto-optymalnej.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rzy niesymetrycznych wagach preferujących cel koniunkturalny, lepszym rozwiązaniem może okazać się kombinacja restrykcyjnej polityki fiskalnej i ekspansywnej monetarn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69850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nioski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2205000"/>
            <a:ext cx="856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W pracy 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przeanalizowano zagadnienie dotyczące wyboru </a:t>
            </a:r>
            <a:r>
              <a:rPr b="1" i="1" lang="pl-PL" sz="1400" spc="-1" strike="noStrike">
                <a:solidFill>
                  <a:srgbClr val="0000cc"/>
                </a:solidFill>
                <a:latin typeface="Times New Roman"/>
              </a:rPr>
              <a:t>policy mix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 z wykorzystaniem teorii gier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, traktując powyższy problem decyzyjny jako 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grę dwuosobową o sumie niezerowej, w której bank centralny i rząd podejmują decyzje samodzielnie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. Pokazano przykład gry uwzględniającej dwie jakościowo różne strategie: restrykcyjną i ekspansywną zarówno po stronie polityki fiskalnej jak i polityki pieniężnej, przyjmując, że kryterium, jakim kieruje się bank centralny jest minimalizacja inflacji, a rząd dąży do maksymalizacji tempa wzrostu gospodarczeg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okazano, że 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równowaga Nasha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w analizowanej grze jest wyznaczona przez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 strategie dominujące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i prowadzi do wyboru bądź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 restrykcyjnej polityki monetarnej i ekspansywnej polityki fiskalnej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, bądź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 obu restrykcyjnych polityk: pieniężnej i fiskalnej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w zależności od przyjętych założeń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dotyczących uwarunkowań koniunktury gospodarczej, przede wszystkim wpływu deficytu budżetowego na wzrost PKB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ierwszy z powyższych stanów równowagi odpowiada rzeczywistej sytuacji, jaka ma miejsce w ostatnich latach w Polsce, gdzie w odpowiedzi na zbyt ekspansywną politykę fiskalną i wysoki poziom deficytu budżetowego, bank centralny prowadzi politykę restrykcyjną utrzymując realne stopy procentowe na wysokim poziomie.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69850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nioski c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2133720"/>
            <a:ext cx="8640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rzeprowadzono analizę Pareto-optymalności rozwiązań dla gry uwzględniającej dwie jakościowo różne strategie polityki fiskalnej i pieniężnej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wskazując na możliwość zaistnienia czterech różnych przypadków, z któryc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w wariancie B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 wszystkie cztery oznaczają, że równowaga Nasha jest Pareto-optymaln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w wariancie 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trzy dotyczą sytuacji, gdy równowaga Nasha stanowi jednocześnie rozwiązanie Pareto-optymalne, a jedynie jeden wskazuje na znany w literaturze przypadek dylematu więźni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gdy występuje konflikt między racjonalnością indywidualną w postaci kryterium dominacji a racjonalnością grupową w postaci kryterium Paret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dczas gdy w pracach innych autorów wskazuje się jedynie na możliwość występowania dylematu więźnia, co stanowi przesłankę dla wniosku o konieczności koordynacji polityki fiskalnej i monetarn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 pracy przedstawiono również warunki, od jakich zależy Pareto-optymalność rozwiązań w wariancie A.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areto-optymalność rozwiązań zależy od tego, która polityka: monetarna czy fiskalna skuteczniej wpływa na wzrost gospodarczy oraz która z nich efektywniej oddziałuje na inflację, a także który instrument podlega silniejszym zmianom: stopa procentowa czy deficyt budżetowy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k więc, w większości przypadków równowaga w grze jest Pareto-optymalna, co oznacza, że samodzielność banku centralnego w kształtowaniu polityki monetarnej prowadzi do efektywnych rozwiązań. Jedynie przypadek, gdy polityka monetarna oddziałuje skuteczniej na wzrost gospodarczy niż na inflację i przeciwnie, polityka fiskalna wpływa efektywniej na inflację niż na wzrost PKB, wskazuje na konieczność koordynacji polityki banku centralnego i rząd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7705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 z trzema strategiami – założe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24000" y="2205000"/>
          <a:ext cx="3816360" cy="2871720"/>
        </p:xfrm>
        <a:graphic>
          <a:graphicData uri="http://schemas.openxmlformats.org/drawingml/2006/table">
            <a:tbl>
              <a:tblPr/>
              <a:tblGrid>
                <a:gridCol w="583920"/>
                <a:gridCol w="584280"/>
                <a:gridCol w="441360"/>
                <a:gridCol w="441360"/>
                <a:gridCol w="441360"/>
                <a:gridCol w="441360"/>
                <a:gridCol w="441360"/>
                <a:gridCol w="441360"/>
              </a:tblGrid>
              <a:tr h="3603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row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156360" y="2708280"/>
                <a:ext cx="2016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227640" y="5516640"/>
                <a:ext cx="1873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19720" y="4616280"/>
                <a:ext cx="1889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56360" y="3284640"/>
                <a:ext cx="2016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1258920" y="5157720"/>
            <a:ext cx="316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Impact"/>
                <a:ea typeface="Times New Roman"/>
              </a:rPr>
              <a:t>↑                  ↑                ↑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ekspansyw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neutralna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estrykcyjna</a:t>
            </a:r>
            <a:br>
              <a:rPr sz="1400"/>
            </a:br>
            <a:br>
              <a:rPr sz="8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lityka moneta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3068640"/>
            <a:ext cx="1584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estrykcyjna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utralna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ekspansyw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227664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yka fiskal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3860640"/>
            <a:ext cx="20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leżności liniowe, stałe pochodne cząstk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2276640"/>
            <a:ext cx="24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ówne zmiany instrumentó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468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 z trzema strategia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2565360"/>
          <a:ext cx="8272440" cy="3886200"/>
        </p:xfrm>
        <a:graphic>
          <a:graphicData uri="http://schemas.openxmlformats.org/drawingml/2006/table">
            <a:tbl>
              <a:tblPr/>
              <a:tblGrid>
                <a:gridCol w="576360"/>
                <a:gridCol w="504720"/>
                <a:gridCol w="1198440"/>
                <a:gridCol w="1198800"/>
                <a:gridCol w="1198440"/>
                <a:gridCol w="1198440"/>
                <a:gridCol w="1198800"/>
                <a:gridCol w="1198440"/>
              </a:tblGrid>
              <a:tr h="47700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pł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000">
                <a:tc row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7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7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7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292720" y="3645000"/>
                <a:ext cx="67932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δ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916360" y="3645000"/>
                <a:ext cx="815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δ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667640" y="5589720"/>
                <a:ext cx="819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γ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667640" y="4653000"/>
                <a:ext cx="725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γ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076720" y="4653000"/>
                <a:ext cx="1168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δΔr</m:t>
                    </m:r>
                    <m:r>
                      <m:t xml:space="preserve">+</m:t>
                    </m:r>
                    <m:r>
                      <m:t xml:space="preserve">γ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003640" y="5589720"/>
                <a:ext cx="12621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δΔr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γ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556000" y="5589720"/>
                <a:ext cx="13539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δΔr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γ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627280" y="4653000"/>
                <a:ext cx="1260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δΔr</m:t>
                    </m:r>
                    <m:r>
                      <m:t xml:space="preserve">+</m:t>
                    </m:r>
                    <m:r>
                      <m:t xml:space="preserve">γ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476360" y="5084640"/>
                <a:ext cx="13143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αΔr</m:t>
                    </m:r>
                    <m:r>
                      <m:t xml:space="preserve">+</m:t>
                    </m:r>
                    <m:r>
                      <m:t xml:space="preserve">β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851280" y="6093000"/>
                <a:ext cx="1314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αΔr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β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51280" y="5084640"/>
                <a:ext cx="122220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αΔr</m:t>
                    </m:r>
                    <m:r>
                      <m:t xml:space="preserve">+</m:t>
                    </m:r>
                    <m:r>
                      <m:t xml:space="preserve">β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692360" y="4149720"/>
                <a:ext cx="8208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α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443640" y="6093000"/>
                <a:ext cx="84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β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111560" y="4137120"/>
                <a:ext cx="7398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</m:t>
                    </m:r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516720" y="5084640"/>
                <a:ext cx="73800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βΔ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476360" y="6093000"/>
                <a:ext cx="1355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αΔr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βΔ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 txBox="1"/>
          <p:nvPr/>
        </p:nvSpPr>
        <p:spPr>
          <a:xfrm>
            <a:off x="5940000" y="1915920"/>
            <a:ext cx="230364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la funkcji liniowych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la równych </a:t>
            </a:r>
            <a:r>
              <a:rPr b="1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1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439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A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39640" y="2421000"/>
          <a:ext cx="4896000" cy="3733560"/>
        </p:xfrm>
        <a:graphic>
          <a:graphicData uri="http://schemas.openxmlformats.org/drawingml/2006/table">
            <a:tbl>
              <a:tblPr/>
              <a:tblGrid>
                <a:gridCol w="750960"/>
                <a:gridCol w="747720"/>
                <a:gridCol w="566640"/>
                <a:gridCol w="565200"/>
                <a:gridCol w="568440"/>
                <a:gridCol w="565200"/>
                <a:gridCol w="566640"/>
                <a:gridCol w="565200"/>
              </a:tblGrid>
              <a:tr h="45252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 row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867280" y="1844640"/>
                <a:ext cx="2016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867280" y="2997360"/>
                <a:ext cx="2087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5724360" y="5084640"/>
            <a:ext cx="3095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439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39640" y="2421000"/>
          <a:ext cx="4896000" cy="3733560"/>
        </p:xfrm>
        <a:graphic>
          <a:graphicData uri="http://schemas.openxmlformats.org/drawingml/2006/table">
            <a:tbl>
              <a:tblPr/>
              <a:tblGrid>
                <a:gridCol w="750960"/>
                <a:gridCol w="747720"/>
                <a:gridCol w="566640"/>
                <a:gridCol w="565200"/>
                <a:gridCol w="568440"/>
                <a:gridCol w="565200"/>
                <a:gridCol w="566640"/>
                <a:gridCol w="565200"/>
              </a:tblGrid>
              <a:tr h="45252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 row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867280" y="1844640"/>
                <a:ext cx="2016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2997360"/>
                <a:ext cx="2087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724360" y="5157720"/>
            <a:ext cx="309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33560" y="1600200"/>
            <a:ext cx="48387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zokwanta funkcji CES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interpretacji polityki stóp procentowyc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5819760" cy="38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50920" y="1844640"/>
            <a:ext cx="3456000" cy="4691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Izokwanta funkcji CES jest krzywą jednakowej stopy procentowej. Ten sam poziom stopy procentowej jest odpowiedni dla gospodarki charakteryzującej się znacznym zagrożeniem ze strony inflacji i recesji (wysoka inflacja i jednocześnie niskie zatrudnienie) jak i dla gospodarki z niewielkim zagrożeniem inflacyjnym, natomiast z korzystną koniunkturą gospodarczą (niska inflacja i jednocześnie wysoki wskaźnik  zatrudnieni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Jeśli przy stałej inflacji pogarsza się koniunktura (maleje zatrudnienie, rośnie bezrobocie) lub słabnie </a:t>
            </a:r>
            <a:r>
              <a:rPr b="0" i="1" lang="pl-PL" sz="1400" spc="-1" strike="noStrike">
                <a:solidFill>
                  <a:srgbClr val="ffffff"/>
                </a:solidFill>
                <a:latin typeface="Times New Roman"/>
              </a:rPr>
              <a:t>ceteris paribus</a:t>
            </a: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 zagrożenie inflacyjne, bądź też oba te czynniki działają jednocześnie, tzn. przy malejącej inflacji pogarsza się koniunktura, bank centralny ma podstawy do obniżki stóp procentowych – odzwierciedleniem tej sytuacji jest przesunięcie na niżej położoną izokwant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439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A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9640" y="2421000"/>
          <a:ext cx="4896000" cy="3733560"/>
        </p:xfrm>
        <a:graphic>
          <a:graphicData uri="http://schemas.openxmlformats.org/drawingml/2006/table">
            <a:tbl>
              <a:tblPr/>
              <a:tblGrid>
                <a:gridCol w="750960"/>
                <a:gridCol w="747720"/>
                <a:gridCol w="566640"/>
                <a:gridCol w="565200"/>
                <a:gridCol w="568440"/>
                <a:gridCol w="565200"/>
                <a:gridCol w="566640"/>
                <a:gridCol w="565200"/>
              </a:tblGrid>
              <a:tr h="45252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 row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867280" y="1844640"/>
                <a:ext cx="2016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867280" y="2852640"/>
                <a:ext cx="2087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724360" y="5084640"/>
            <a:ext cx="3095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stanowi rozwiązanie Pareto-optym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439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zypadek A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9640" y="2421000"/>
          <a:ext cx="4896000" cy="3733560"/>
        </p:xfrm>
        <a:graphic>
          <a:graphicData uri="http://schemas.openxmlformats.org/drawingml/2006/table">
            <a:tbl>
              <a:tblPr/>
              <a:tblGrid>
                <a:gridCol w="750960"/>
                <a:gridCol w="747720"/>
                <a:gridCol w="566640"/>
                <a:gridCol w="565200"/>
                <a:gridCol w="568440"/>
                <a:gridCol w="565200"/>
                <a:gridCol w="566640"/>
                <a:gridCol w="565200"/>
              </a:tblGrid>
              <a:tr h="45252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ren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k central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5e75"/>
                        </a:gs>
                        <a:gs pos="50000">
                          <a:srgbClr val="ccccff"/>
                        </a:gs>
                        <a:gs pos="100000">
                          <a:srgbClr val="5e5e75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 rowSpan="6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zą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46"/>
                        </a:gs>
                        <a:gs pos="50000">
                          <a:srgbClr val="ffff99"/>
                        </a:gs>
                        <a:gs pos="100000">
                          <a:srgbClr val="757546"/>
                        </a:gs>
                      </a:gsLst>
                      <a:lin ang="10800000"/>
                    </a:gra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0000"/>
                      </a:solidFill>
                    </a:lnR>
                    <a:lnT>
                      <a:noFill/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0000"/>
                      </a:solidFill>
                    </a:lnR>
                    <a:lnT>
                      <a:noFill/>
                    </a:lnT>
                    <a:lnB w="280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r>
                        <a:rPr b="1" i="1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867280" y="1844640"/>
                <a:ext cx="2016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867280" y="2997360"/>
                <a:ext cx="2087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Δb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724360" y="4221000"/>
            <a:ext cx="3095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tan równowagi nie jest rozwiązaniem Pareto-optymalnym.</a:t>
            </a:r>
            <a:br>
              <a:rPr sz="1800"/>
            </a:br>
            <a:br>
              <a:rPr sz="12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ównowaga jest mniej korzystna zarówno z punktu widzenia rządu jak i banku centralnego od (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 i (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zeregi czasowe. Normalizacja zmienny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59280" y="2708280"/>
          <a:ext cx="4943160" cy="1635120"/>
        </p:xfrm>
        <a:graphic>
          <a:graphicData uri="http://schemas.openxmlformats.org/drawingml/2006/table">
            <a:tbl>
              <a:tblPr/>
              <a:tblGrid>
                <a:gridCol w="3125520"/>
                <a:gridCol w="939960"/>
                <a:gridCol w="8776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mien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inalna stopa procentowa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lacja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a zatrudnienia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059280" y="2276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równywalność zmienn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11280" y="5445000"/>
                <a:ext cx="42480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9640" y="4581360"/>
            <a:ext cx="79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y realistycznie ocenić udział tych dwóch kategorii ekonomicznych w wyznaczaniu wysokości stóp procentowych,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należy sprowadzić do porównywalności dane statystyczne poprzez standaryzację zmiennej objaśnianej i zmiennych objaśniającyc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2205000"/>
            <a:ext cx="2160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jwiększą zmienność wykazuje inflacja, która jednocześnie przyjmuje średnio najniższe wartości, odwrotnie stopa zatrudnienia, którą charakteryzuje najmniejsza zmienność i najwyższa wartość przecięt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5589720"/>
            <a:ext cx="30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zeregi czasowe – dane miesięczne 1993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82803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ymację przeprowadzono dla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różnych wariantów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względniając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opóźnioną reakcję stóp procentowych na stan koniunktury gospodarczej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mienne objaśniające pochodzą z tego samego okresu, co zmienna objaśniana (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ariant bez opóźnie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la opóźnionych zmiennych objaśniających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z różnym opóźnieniem (od 1 do 6 miesięc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dla opóźnień rozłożonyc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średnia z kilku ostatnich miesięcy dla zmiennych objaśniającyc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 różnych wariantach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oszacowania parametru </a:t>
            </a:r>
            <a:r>
              <a:rPr b="1" i="1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wahają się nieznacznie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ieszczą się w przedzia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0,735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0,74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d względem kryterium najmniejszej sumy kwadratów odchyleń stóp procentowych: wartości teoretycznych z funkcji CES od wartości empirycznych,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najlepsze wyniki uzyskano dla następujących wariantów (opóźnienie rzędu 3-4 miesięcy)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ko zmienne objaśniające przyjęto średnią wartość z 3 ostatnich miesięcy dla inflacji i średnią z 4 ostatnich miesięcy dla stopy zatrudnienia (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SK 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E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805,19 )   </a:t>
            </a:r>
            <a:r>
              <a:rPr b="1" i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0,736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la opóźnień rozłożonych ze średnią z 3 ostatnich miesięcy jednakowo dla obu zmiennych objaśniających (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SK 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E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818,03 )    </a:t>
            </a:r>
            <a:r>
              <a:rPr b="1" i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0,738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440" y="1700280"/>
            <a:ext cx="65502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zyskane wynik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1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niki estymacji metodą Kmen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wstęp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2057400"/>
          <a:ext cx="6908760" cy="40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90876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16720" y="4581360"/>
            <a:ext cx="2158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roblem z autokorelacją składnika los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2852640"/>
            <a:ext cx="223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średnia z 2 ostatnich miesięcy dla inflacj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średnia z 3 ostatnich miesięcy dla stopy zatrudnie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1844640"/>
            <a:ext cx="201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óźnienia rozłożone dla zmiennych objaśniającyc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1557360"/>
            <a:ext cx="7272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niki estymacji metodą Kmenty –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stęp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óźnienia rozłożone - średnia z 2 ostatnich miesięcy dla inflacji, średnia z 3 ostatnich miesięcy dla stopy zatrudnien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2492280"/>
          <a:ext cx="6572160" cy="37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92280"/>
                    <a:ext cx="657216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3:03:01Z</dcterms:created>
  <dc:creator>Irena Woroniecka</dc:creator>
  <dc:description/>
  <dc:language>en-US</dc:language>
  <cp:lastModifiedBy>Irena Woroniecka</cp:lastModifiedBy>
  <dcterms:modified xsi:type="dcterms:W3CDTF">2007-05-16T18:02:07Z</dcterms:modified>
  <cp:revision>478</cp:revision>
  <dc:subject/>
  <dc:title>POLITYKA STÓP PROCENTOWYCH. CEL INFLACYJNY I STABILIZACYJNY. </dc:title>
</cp:coreProperties>
</file>